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05EA-78DA-44B5-B967-9DA1FC6B4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46D7-2918-4142-B4A2-1D9256821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0643-B41A-4D85-886B-15B08D587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3A1D-1133-484C-A967-F400A585A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08EA-0203-4E6A-897A-1E9EB69D5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15EA-7CCD-4421-8246-932EC7AA3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82C1-032C-48B5-8032-9170C8BA1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1B34-76C1-4BD2-BBB3-853B5E1DF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9B11-2C8F-4404-BD85-41BBC4B94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DE98-4960-4047-BCEF-310B3EACB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4F75-6F26-41F7-A502-491121B29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F6E1-3EC7-421B-9344-E98DC61D1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A17A-69A2-4478-AA1F-7F7D88926BFC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etf.org/internet-drafts/draft-ietf-ips-iser-05.tx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47800" y="785880"/>
            <a:ext cx="755496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SER Support Annex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kady Kanevsky, Ph.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TA SW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n Francisc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ptember 25, 2006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850680"/>
            <a:ext cx="844560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ide an option to support iSER on IB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BTA support for iSCSI extension for RDM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ETF draft 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Arial Narrow"/>
                <a:hlinkClick r:id="rId1"/>
              </a:rPr>
              <a:t>http://www.ietf.org/internet-drafts/draft-ietf-ips-iser-05.tx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able RDMA Read and Write to be used to transfer SCSI I/O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ETF draft requires features that are optional in IBTA standar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Zero-Based Virtual Address (ZBV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nd with Invalid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to do when optional semantics not supported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E1E8-87F7-42CE-A850-C0DBA785A4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ow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571320"/>
            <a:ext cx="8636040" cy="60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tocol to negotiate IBTA optional iSER functionality during IBTA connection set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ER Initiator advertises its capabilities for optional functionality in CM REQ that iSER exp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ER Target responds with CM REP stating which optional functionality it will 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ER extension header for V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 RDMA IP CM Service for iSER connection establish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urce IP address and IP port shall be filled by privileged kernel mode. Privileged Q-key is 0x80010000 (to prevent spoofing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arget first checks IB and IP connection information correctne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f destination does not support iSER, IP protocol, or destination port – generate CM REJ with Invalid Service ID (reason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or can attempt to use iSCSI over IPo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C103-3430-4A17-879B-EFD6D51079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ER Service ID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31840" y="1562040"/>
          <a:ext cx="8518320" cy="3341520"/>
        </p:xfrm>
        <a:graphic>
          <a:graphicData uri="http://schemas.openxmlformats.org/drawingml/2006/table">
            <a:tbl>
              <a:tblPr/>
              <a:tblGrid>
                <a:gridCol w="2840040"/>
                <a:gridCol w="2838240"/>
                <a:gridCol w="284004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rvice ID for an RDMA-Aware U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000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Protocol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6 (TC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tination IP port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isting values used for iSCSI/i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0764-F04F-4730-8A06-BB3E1A14FF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ER CM REQ Message Private Data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44440" y="952560"/>
          <a:ext cx="8518680" cy="5325840"/>
        </p:xfrm>
        <a:graphic>
          <a:graphicData uri="http://schemas.openxmlformats.org/drawingml/2006/table">
            <a:tbl>
              <a:tblPr/>
              <a:tblGrid>
                <a:gridCol w="1241640"/>
                <a:gridCol w="1218960"/>
                <a:gridCol w="3149640"/>
                <a:gridCol w="290844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-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M REQ Message Exten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ined by RDMA IP CM Service Ann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-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ero-Based Virtual Address Ex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 – Initiator supports ZB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– Initiator does not support ZB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d with Invalidate Ex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 – Initiator supports Send with Invali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- Initiator does not support Send with Invali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-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er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t to 0 on iSER Initiator side and ignored by iSER Target 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-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er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t to 0 on iSER Initiator side and ignored by iSER Target 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C0E4-DF63-49DA-A290-C7DDBF0AFD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ER CM REP Message Private Data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4440" y="952560"/>
          <a:ext cx="8518680" cy="3624120"/>
        </p:xfrm>
        <a:graphic>
          <a:graphicData uri="http://schemas.openxmlformats.org/drawingml/2006/table">
            <a:tbl>
              <a:tblPr/>
              <a:tblGrid>
                <a:gridCol w="1241640"/>
                <a:gridCol w="1218960"/>
                <a:gridCol w="3149640"/>
                <a:gridCol w="2908440"/>
              </a:tblGrid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Zero-Based Virtual Address Ex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 – Initiator shall use ZB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 – Initiator shall use 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nd with Invalidate Ex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 – Target  will use Send with Invali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- Target will use Send and NOT send with Invali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9-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er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t to 0 on iSER Target side and ignored by iSER Initiator 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76A2-B6B9-477F-B2C0-0BEABF37AA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SER Connection establishment - Extras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4080" y="86364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ER Connection establishment - Extr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fter IB connection establishment do iSCSI login exchang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egotiate RDMAExtension to Y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 IB CM negotiated RDMA Read Responder Resources and Initiator Depth for negotiating iSER RDMA parame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ER protocol extension to handle lack of optional semanti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either side does not support Send with Invalidate then only Send will be u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the Initiator to invalidate STag(s) (R-key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either side does not support ZBVA then VA will be used instea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tended iSER header for VA to be used by both iSER Initiator and Targe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9CC3-44CC-4266-8455-716E5AF990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tension iSER Header for VA suppor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5240" y="812880"/>
          <a:ext cx="8597880" cy="5683320"/>
        </p:xfrm>
        <a:graphic>
          <a:graphicData uri="http://schemas.openxmlformats.org/drawingml/2006/table">
            <a:tbl>
              <a:tblPr/>
              <a:tblGrid>
                <a:gridCol w="761760"/>
                <a:gridCol w="711360"/>
                <a:gridCol w="2044800"/>
                <a:gridCol w="50799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peration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1 – iSCSI control type P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rite STag Valid (WS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1 – indicates that Write Stag and Write VAs are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STag Valid (RS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1 – indicates that Read Stag and Read VAs are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rite S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ains IB R-key for SCSI Write command when WSV is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rite VA 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f WSV is set contains IB VA bits 63-32 for SCSI Write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rite VA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f WSV is set contains IB VA bits 31-0 for SCSI Write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ST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ains IB R-key for SCSI Read command when RSV is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VA 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f RSV is set contains IB VA bits 63-32 for SCSI Read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-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 VA 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f RSV is set contains IB VA bits 31-0 for SCSI Read 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therwise, set to 0 on Send and ignored on Rece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A382-F431-41CB-8BDD-8A852590D5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20:15:46Z</dcterms:created>
  <dc:creator>kristink</dc:creator>
  <dc:description/>
  <cp:keywords/>
  <dc:language>en-US</dc:language>
  <cp:lastModifiedBy>NetApp</cp:lastModifiedBy>
  <cp:lastPrinted>1998-06-24T21:45:20Z</cp:lastPrinted>
  <dcterms:modified xsi:type="dcterms:W3CDTF">2006-08-15T21:27:57Z</dcterms:modified>
  <cp:revision>67</cp:revision>
  <dc:subject/>
  <dc:title>PowerPoint Presentation</dc:title>
</cp:coreProperties>
</file>