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2B53-7B66-4542-8A08-6BDA57683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758F-F5AE-41C3-947D-33B85CFA2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21B0-912E-4ECE-821A-4963A5A13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F4A7-E15B-44C9-A538-34F6887AB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D5AD-0D0C-4A84-BD6E-08FE600FD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2444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04800" y="138420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408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2444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04800" y="4051080"/>
            <a:ext cx="27428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3F65-2DA4-4340-91F9-8CBF5E7E5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BF54-6CDB-4291-8218-FFCE9E5A1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C499-EF9D-49B4-B273-6D8D39DA1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7680" y="90360"/>
            <a:ext cx="852336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7412-20ED-40CE-81FE-FC95E70A0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43B5-1D02-474D-B3F5-EFA4D5267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9080" y="405108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1CFE-956E-480E-9C7B-E0ABBD1C3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9080" y="1384200"/>
            <a:ext cx="41569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4080" y="4051080"/>
            <a:ext cx="8518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C2A5-A4D2-40E8-9F97-D368CD22C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57240" y="6528960"/>
            <a:ext cx="139536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777777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D8B0-1EBD-4A13-83C5-D463EB0714FC}" type="slidenum">
              <a:rPr b="1" lang="en-US" sz="900" spc="-1" strike="noStrike">
                <a:solidFill>
                  <a:srgbClr val="777777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05280" y="665784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1669680" y="6548400"/>
            <a:ext cx="583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 © 2006 InfiniBand</a:t>
            </a:r>
            <a:r>
              <a:rPr b="1" lang="en-US" sz="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Trade Association.  Other names and brands are properties of their respective owner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0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47800" y="785880"/>
            <a:ext cx="755496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DMA IP CM Service Annex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kady Kanevsky, Ph.D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TA SW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n Francisc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ptember 25, 2006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y do we support IETF Protocol number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IETF post spaces are independently managed based on protocol number it is better to support it to avoid issues in the future when RDMA will be defined/used over non-TCP protoco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col # is in SID – to maximize Consumer Privat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ean and complete IETF 5-tuple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3AF4-8293-4C51-8D68-4DCB293AE5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y do we need to pass Destination Port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M can do the mapping between Service IDs  and ports to provide Destination Port to a Responder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nversion is an API issue is outside the scope of the sp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same is true for populating Private Data CM formatted field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TA does not define CM verb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E896-7C6C-4CAF-A745-86D1ADAE15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ow to handle the use of IP addresses reserved for privileged/kernel users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 an issue since CM REQ message privileged Q-key is setup by CM appropriately. IBTA spec already covers i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d by IB security mod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004D-7203-4A36-B6A3-88E608C2B4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lignmen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64 bit IP addresses align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ivate data starts at 140 by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 addresses start at 144 by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is 8 byte align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P addresses are 8 byte align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318A-A20F-41B7-817E-5AC9798F4D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lationship to CM APM Support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4080" y="1384200"/>
            <a:ext cx="8518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M connection stays the same under Alternative Path Mig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sign does not provide separate IP addresses for Alternative Pa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BA98-4223-4A08-AD05-3047F07F0F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6980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veraging existing world IP Addressing infrastructure for RDMA C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fine mapping between TCP port space and IB Service IDs for RDMA-aware ULP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DMA-Aware ULP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licitly use RDMA semantic: memory registration, preposting recv buffers, RDMA operations and so 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DMA transport independ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on IB and iWARP without transport dependen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 support for a socket-like connection model for RDMA-aware ULP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78600" indent="-226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B Consumer use the socket 5-tuple for connection establish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P protocol numb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urce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tination IP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18440" indent="-226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stination po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8DD6-6596-4155-ADFA-CF788D5287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How?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DMA IP CM Service is a layer above IBTA C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DMA IP CM Service Annex defines a protocol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DMA IP CM Service uses IBTA CM REQ private dat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urce and destinations IP address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urce P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 protocol ports mapping into IBTA Service I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ps IP protocol number and destination IP port into IBTA Service I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erves a range of IBTA service IDs for RDMA IP CM Servi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5E14-A83A-42CB-A141-B5540AB2FB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M REQ Message Private Data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47976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 IP Address (31 –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07332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 IP Address (63 – 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66688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 IP Address (95 – 6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322360"/>
            <a:ext cx="6095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urce IP Address (127 – 9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2322360"/>
            <a:ext cx="19810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1600200"/>
            <a:ext cx="29718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ource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447920"/>
            <a:ext cx="762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447920"/>
            <a:ext cx="761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447920"/>
            <a:ext cx="0" cy="4647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1447920"/>
            <a:ext cx="0" cy="82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1447920"/>
            <a:ext cx="0" cy="4647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392436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5920" y="563868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 Privat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09436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stination IP Address (31 –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68792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stination IP Address (63 – 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281480"/>
            <a:ext cx="6172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stination IP Address (95 – 6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3936960"/>
            <a:ext cx="6095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stination IP Address (127 – 9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3936960"/>
            <a:ext cx="1981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1447920"/>
            <a:ext cx="7009920" cy="4647960"/>
            <a:chOff x="533520" y="1447920"/>
            <a:chExt cx="7009920" cy="4647960"/>
          </a:xfrm>
        </p:grpSpPr>
        <p:sp>
          <p:nvSpPr>
            <p:cNvPr id="107" name=""/>
            <p:cNvSpPr/>
            <p:nvPr/>
          </p:nvSpPr>
          <p:spPr>
            <a:xfrm>
              <a:off x="533520" y="1447920"/>
              <a:ext cx="7009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2271600"/>
              <a:ext cx="70099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33520" y="2703600"/>
              <a:ext cx="70099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520" y="3135240"/>
              <a:ext cx="70099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20" y="3541680"/>
              <a:ext cx="70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6095880"/>
              <a:ext cx="700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3922560"/>
              <a:ext cx="700992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33520" y="4317480"/>
              <a:ext cx="700992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4749840"/>
              <a:ext cx="70099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3520" y="5156280"/>
              <a:ext cx="700992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520" y="5562720"/>
              <a:ext cx="700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95680" y="1447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1523880"/>
            <a:ext cx="825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1447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1447920"/>
            <a:ext cx="762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1447920"/>
            <a:ext cx="0" cy="82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8064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                    2                            1                 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0 9 8 7 6 5 4 3 2 1 0 9 8 7 6 5 4 3 2 1 0 9 8 7 6 5 4 3 2 1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8080" y="1447920"/>
            <a:ext cx="0" cy="4647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880" y="838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5800" y="23623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5800" y="17524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2360" y="32004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080" y="2743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2360" y="39625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360" y="3581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2360" y="43434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2360" y="5638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-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2360" y="48006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-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2360" y="51814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5200" y="6178680"/>
            <a:ext cx="85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e  next slide for dest SID which encodes dest port number and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37A3-A208-4BEF-8938-810E93A2F2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DMA IP CM Service IBTA SID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934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D range indicates that private data is format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I or verbs that use IETF addressing indicate that IETF protocol # and port are mapped into IB SI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2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2819520"/>
          <a:ext cx="6095880" cy="3429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BTA A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fix of RDMA-aware SID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ach byte 0x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DMA-aware ULP SID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Protocol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e I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port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LP well-known port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EA38-ACDA-4EA5-8735-828BE2952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rror Handling - I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800280"/>
          <a:ext cx="8305920" cy="167616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47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jection L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 – RDMA IP CM Ser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1 – RDMA-Aware U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-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yer 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see table below for RDMA IP CM Serv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57200" y="3276720"/>
          <a:ext cx="8305920" cy="32353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jection Lay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 – RDMA IP CM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DMA IP CM Service layer 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next t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ggest value length in by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 – no suggested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– suggested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lignment f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er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-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ggested val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def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513160" y="280044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DMA IP CM Service Error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A370-2E6F-4515-8313-4CEAB6AD14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rror Handling – II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DMA IP CM Service layer ARI code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701720"/>
          <a:ext cx="8458200" cy="424800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502920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RI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pecifi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pecified reason for RDMA IP CM Service rej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ecified major version not supported by remote 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or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ecified minor version not supported by remote 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version not suppor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urce 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mat of source IP address does not match IP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mat of destination IP address does not match IP 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x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known 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tination IP address does not match Server IP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54EB-8CE2-4D2B-9655-3DBF2B5B33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810720"/>
            <a:ext cx="739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ackup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69360" y="3189240"/>
            <a:ext cx="461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7680" y="90360"/>
            <a:ext cx="852336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ow?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ndard IBTA CM REQ with private data format exten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M REQ provides IP address and port (analog) of the requestor, and IP address of the destin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028880" indent="-228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99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CP Port of the destination is available from receiver Service I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12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se SID range to identify that private data is format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ximize Consumer-usable privat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99EE-1AC3-4EF2-B51F-099C404615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20:15:46Z</dcterms:created>
  <dc:creator>kristink</dc:creator>
  <dc:description/>
  <cp:keywords/>
  <dc:language>en-US</dc:language>
  <cp:lastModifiedBy>NetApp</cp:lastModifiedBy>
  <cp:lastPrinted>1998-06-24T21:45:20Z</cp:lastPrinted>
  <dcterms:modified xsi:type="dcterms:W3CDTF">2006-08-15T21:01:04Z</dcterms:modified>
  <cp:revision>60</cp:revision>
  <dc:subject/>
  <dc:title>PowerPoint Presentation</dc:title>
</cp:coreProperties>
</file>