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12.png" ContentType="image/png"/>
  <Override PartName="/ppt/media/image49.png" ContentType="image/png"/>
  <Override PartName="/ppt/media/image47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1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63.png" ContentType="image/png"/>
  <Override PartName="/ppt/media/image26.png" ContentType="image/png"/>
  <Override PartName="/ppt/media/image62.png" ContentType="image/png"/>
  <Override PartName="/ppt/media/image25.png" ContentType="image/png"/>
  <Override PartName="/ppt/media/image59.png" ContentType="image/png"/>
  <Override PartName="/ppt/media/image22.png" ContentType="image/png"/>
  <Override PartName="/ppt/media/image24.png" ContentType="image/png"/>
  <Override PartName="/ppt/media/image60.png" ContentType="image/png"/>
  <Override PartName="/ppt/media/image18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6.wmf" ContentType="image/x-wmf"/>
  <Override PartName="/ppt/media/image11.png" ContentType="image/png"/>
  <Override PartName="/ppt/media/image48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9290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3"/>
          </p:nvPr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4"/>
          </p:nvPr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88A-7B59-4BE7-A3BF-52E86B0F32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31400" y="878220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76612C-B9EA-4DE0-BFD9-076EDA94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Img"/>
          </p:nvPr>
        </p:nvSpPr>
        <p:spPr>
          <a:xfrm>
            <a:off x="1079640" y="815760"/>
            <a:ext cx="4605120" cy="345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8360" y="8508960"/>
            <a:ext cx="649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5040" y="212760"/>
            <a:ext cx="444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l Corporate Standard for color overhead presen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160" y="612720"/>
            <a:ext cx="649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body"/>
          </p:nvPr>
        </p:nvSpPr>
        <p:spPr>
          <a:xfrm>
            <a:off x="289080" y="4397400"/>
            <a:ext cx="6395760" cy="39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A357-236D-4039-99CF-3CE1D64BD8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CA0-FDE5-4905-8E07-09D7986DA7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27000" y="4381560"/>
            <a:ext cx="508176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1261-2844-4818-8387-07582A826E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BC4-9FF2-43B4-B5C1-D563FDE53C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LSI Logic’s leadership position in the industry.  Blue text indicates areas where LSI provides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575-A17A-4C88-BBE5-B54CDF21B4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635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25560" y="437796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interfaces and technology have always driven change, and that trend continues today and into the foreseeabl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channel continues to evolve with 4 Gb/s products recently being released.  8 Gb/s is being investigated in the industry committee and will likely play a role as a SAN interface, particularly in Price Bands 4 and above  (storage systems costing &gt; $15,000 as defined by IDC) but it is yet to be determined if or when it appears as a disk or device interface.  Fibre Channel will continue to be a major part of the SAN infrastructure, as well as a disk/device interface in the upper part of Price Band 4 and above (storage systems costing &gt; $25,000 as defined by ID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CSI is emerging as a viable SAN interface for entry-level systems (Price Bands 1 – 3, systems costing &lt; $15,000 as defined by IDC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 Attach SCSI (SAS) is starting to appear and will quickly ramp as an interface for Direct Attach Storage (DAS) as a parallel SCSI replacement, as well as a disk/device interface – also as a parallel SCSI replacement.   SAS will appear first internal to servers and will eventually move into external storag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 ATA (SATA) continues to penetrate the market, both in entry level systems and in secondary storage applications.  SATA has found a home in non-mission critical systems and in application environments where high IOP performance is not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iniBand (IB) is making a resurgence, particularly in high performance computing requirements.  Initially being deployed as a high-bandwidth, low-latency cluster interconnect, IB is now being strongly considered as a direct storage interface into these clusters.  Expect to see native IB storage interfaces in late 2005 and early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290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BA8C-12E0-4859-9B28-FB8463D5A0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1440" y="875988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-1440" y="0"/>
            <a:ext cx="3006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6F16-B709-46C0-90D4-6CAF2B296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CF91-D391-4CDF-A667-F507C5CFD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D1C5-57FF-449D-8BA5-7C0AFB114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E02B-A967-4A1C-8CD9-24C6798C0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7C16-ABDA-495A-B424-6227682C6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1AF4-6615-48E1-8DA5-0A1EA2549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D24C-5B15-451D-9937-3BDD52F12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8C1E-FB17-4921-9E69-07AFA21ED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62E1-635C-4908-A1AE-A27E77F13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2A58-2E84-4BEF-875F-3E6983B70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0247-DAF4-4EA4-A8F2-566199034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0E89-4B17-4B02-9C94-36097DB40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FB25-A92D-4603-87E2-75D5079EB1DF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pn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7.png"/><Relationship Id="rId12" Type="http://schemas.openxmlformats.org/officeDocument/2006/relationships/image" Target="../media/image21.png"/><Relationship Id="rId13" Type="http://schemas.openxmlformats.org/officeDocument/2006/relationships/image" Target="../media/image20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0.png"/><Relationship Id="rId17" Type="http://schemas.openxmlformats.org/officeDocument/2006/relationships/image" Target="../media/image24.png"/><Relationship Id="rId18" Type="http://schemas.openxmlformats.org/officeDocument/2006/relationships/image" Target="../media/image21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1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0.png"/><Relationship Id="rId26" Type="http://schemas.openxmlformats.org/officeDocument/2006/relationships/image" Target="../media/image27.png"/><Relationship Id="rId27" Type="http://schemas.openxmlformats.org/officeDocument/2006/relationships/image" Target="../media/image18.png"/><Relationship Id="rId28" Type="http://schemas.openxmlformats.org/officeDocument/2006/relationships/image" Target="../media/image28.png"/><Relationship Id="rId29" Type="http://schemas.openxmlformats.org/officeDocument/2006/relationships/image" Target="../media/image25.png"/><Relationship Id="rId30" Type="http://schemas.openxmlformats.org/officeDocument/2006/relationships/image" Target="../media/image27.png"/><Relationship Id="rId31" Type="http://schemas.openxmlformats.org/officeDocument/2006/relationships/image" Target="../media/image25.png"/><Relationship Id="rId32" Type="http://schemas.openxmlformats.org/officeDocument/2006/relationships/image" Target="../media/image27.png"/><Relationship Id="rId33" Type="http://schemas.openxmlformats.org/officeDocument/2006/relationships/image" Target="../media/image25.png"/><Relationship Id="rId34" Type="http://schemas.openxmlformats.org/officeDocument/2006/relationships/image" Target="../media/image26.png"/><Relationship Id="rId35" Type="http://schemas.openxmlformats.org/officeDocument/2006/relationships/image" Target="../media/image21.png"/><Relationship Id="rId36" Type="http://schemas.openxmlformats.org/officeDocument/2006/relationships/image" Target="../media/image29.png"/><Relationship Id="rId37" Type="http://schemas.openxmlformats.org/officeDocument/2006/relationships/image" Target="../media/image30.png"/><Relationship Id="rId38" Type="http://schemas.openxmlformats.org/officeDocument/2006/relationships/image" Target="../media/image31.png"/><Relationship Id="rId39" Type="http://schemas.openxmlformats.org/officeDocument/2006/relationships/image" Target="../media/image32.png"/><Relationship Id="rId40" Type="http://schemas.openxmlformats.org/officeDocument/2006/relationships/image" Target="../media/image33.png"/><Relationship Id="rId41" Type="http://schemas.openxmlformats.org/officeDocument/2006/relationships/image" Target="../media/image34.png"/><Relationship Id="rId42" Type="http://schemas.openxmlformats.org/officeDocument/2006/relationships/image" Target="../media/image35.png"/><Relationship Id="rId43" Type="http://schemas.openxmlformats.org/officeDocument/2006/relationships/image" Target="../media/image36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png"/><Relationship Id="rId47" Type="http://schemas.openxmlformats.org/officeDocument/2006/relationships/image" Target="../media/image40.png"/><Relationship Id="rId48" Type="http://schemas.openxmlformats.org/officeDocument/2006/relationships/image" Target="../media/image41.png"/><Relationship Id="rId49" Type="http://schemas.openxmlformats.org/officeDocument/2006/relationships/image" Target="../media/image42.png"/><Relationship Id="rId50" Type="http://schemas.openxmlformats.org/officeDocument/2006/relationships/image" Target="../media/image43.png"/><Relationship Id="rId51" Type="http://schemas.openxmlformats.org/officeDocument/2006/relationships/image" Target="../media/image44.png"/><Relationship Id="rId52" Type="http://schemas.openxmlformats.org/officeDocument/2006/relationships/image" Target="../media/image45.png"/><Relationship Id="rId53" Type="http://schemas.openxmlformats.org/officeDocument/2006/relationships/image" Target="../media/image46.png"/><Relationship Id="rId54" Type="http://schemas.openxmlformats.org/officeDocument/2006/relationships/image" Target="../media/image47.png"/><Relationship Id="rId55" Type="http://schemas.openxmlformats.org/officeDocument/2006/relationships/image" Target="../media/image48.png"/><Relationship Id="rId56" Type="http://schemas.openxmlformats.org/officeDocument/2006/relationships/image" Target="../media/image49.png"/><Relationship Id="rId57" Type="http://schemas.openxmlformats.org/officeDocument/2006/relationships/image" Target="../media/image50.png"/><Relationship Id="rId58" Type="http://schemas.openxmlformats.org/officeDocument/2006/relationships/image" Target="../media/image51.png"/><Relationship Id="rId59" Type="http://schemas.openxmlformats.org/officeDocument/2006/relationships/image" Target="../media/image52.png"/><Relationship Id="rId60" Type="http://schemas.openxmlformats.org/officeDocument/2006/relationships/image" Target="../media/image53.png"/><Relationship Id="rId61" Type="http://schemas.openxmlformats.org/officeDocument/2006/relationships/image" Target="../media/image54.png"/><Relationship Id="rId62" Type="http://schemas.openxmlformats.org/officeDocument/2006/relationships/image" Target="../media/image55.png"/><Relationship Id="rId63" Type="http://schemas.openxmlformats.org/officeDocument/2006/relationships/image" Target="../media/image56.png"/><Relationship Id="rId64" Type="http://schemas.openxmlformats.org/officeDocument/2006/relationships/image" Target="../media/image57.png"/><Relationship Id="rId65" Type="http://schemas.openxmlformats.org/officeDocument/2006/relationships/image" Target="../media/image58.png"/><Relationship Id="rId66" Type="http://schemas.openxmlformats.org/officeDocument/2006/relationships/image" Target="../media/image59.png"/><Relationship Id="rId67" Type="http://schemas.openxmlformats.org/officeDocument/2006/relationships/image" Target="../media/image60.png"/><Relationship Id="rId68" Type="http://schemas.openxmlformats.org/officeDocument/2006/relationships/image" Target="../media/image61.png"/><Relationship Id="rId69" Type="http://schemas.openxmlformats.org/officeDocument/2006/relationships/image" Target="../media/image62.png"/><Relationship Id="rId70" Type="http://schemas.openxmlformats.org/officeDocument/2006/relationships/image" Target="../media/image63.png"/><Relationship Id="rId71" Type="http://schemas.openxmlformats.org/officeDocument/2006/relationships/image" Target="../media/image3.jpe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480" y="519120"/>
            <a:ext cx="864684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tive InfiniBand Storag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ployment &amp; Customer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2320" y="2579400"/>
            <a:ext cx="501948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ve Elli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rector, HPC Architectu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SI 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&amp; OFA DevCon San Fran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520" y="5557680"/>
            <a:ext cx="97164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90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Development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Plugfest – Spring 2006 – University of New Hampsh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age array was connected, configured, and simply worked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mercial customers attended to observer the technology exchan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aluable relationships form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05 – Nov 2005, Seattle, W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orCloud – Interoperability pushed to the lim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oth activity with many of our Partn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Customer inter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ost-SC05 Customer engagements ongo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A107-0F01-4D75-A2BB-22A857DA4F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90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Development Continu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river Develop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ongoing activity with the IB component vendors to ensure interoperabil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ongoing activity with our Partners to develop host-side device driv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roducing “Enterprise Ready” Storage concepts to component suppliers who have not worked in this area befo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path I/O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ailover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ing years of FC Enterprise Experience to the IB community to ensure that IB Storage is a viable unified wire op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ng to OFED 1.1 SRP driv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71A0-D89E-4D1C-A22D-AF861FF0F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9058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Upcoming Committ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Plugfest – Fall 2006 – University of New Hampshi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will attend and continue to support the IB commun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C06 – Nov 2006, Tampa, F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will attend and continue to support our Partners and the IB commun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5135-5555-4BFE-A1EB-34E11D75BB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2000" y="2154240"/>
            <a:ext cx="738972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Questions?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ntact Info: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ave Ellis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Director, HPC Architecture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SI Logic, Engenio Storage Group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770-330-9486 (Cell)</a:t>
            </a:r>
            <a:br>
              <a:rPr sz="2000"/>
            </a:b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56-895-0517 (Office)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72720"/>
            <a:ext cx="74674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Disclaimer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520" y="107928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material contains LSI Logic,  Engenio Storage Group technology overview inform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ferenced features, functionality and capabilit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y not all be supported by all LSI ESG Partn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es contained here do not reflect product testing/qualification conducted by LSI ESG Partn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es and features are subject to chan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pinions of the speaker do not reflect the opinions or policies of LSI Log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115480" y="2365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ECC4-5A1D-480D-9C5C-F7E2F342FF2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49440" y="5435640"/>
            <a:ext cx="7594560" cy="14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12600" y="380880"/>
            <a:ext cx="8381880" cy="5950080"/>
            <a:chOff x="-12600" y="380880"/>
            <a:chExt cx="8381880" cy="5950080"/>
          </a:xfrm>
        </p:grpSpPr>
        <p:grpSp>
          <p:nvGrpSpPr>
            <p:cNvPr id="100" name=""/>
            <p:cNvGrpSpPr/>
            <p:nvPr/>
          </p:nvGrpSpPr>
          <p:grpSpPr>
            <a:xfrm>
              <a:off x="1739880" y="833400"/>
              <a:ext cx="3200400" cy="551160"/>
              <a:chOff x="1739880" y="833400"/>
              <a:chExt cx="3200400" cy="551160"/>
            </a:xfrm>
          </p:grpSpPr>
          <p:sp>
            <p:nvSpPr>
              <p:cNvPr id="101" name=""/>
              <p:cNvSpPr/>
              <p:nvPr/>
            </p:nvSpPr>
            <p:spPr>
              <a:xfrm>
                <a:off x="1739880" y="833400"/>
                <a:ext cx="297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Co-wrote SCSI industry specif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73400" y="985680"/>
                <a:ext cx="266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eveloped first SCSI protocol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30600" y="1138320"/>
                <a:ext cx="1593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SCSI macro 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435480" y="3119400"/>
              <a:ext cx="4933800" cy="2673360"/>
              <a:chOff x="3435480" y="3119400"/>
              <a:chExt cx="4933800" cy="2673360"/>
            </a:xfrm>
          </p:grpSpPr>
          <p:sp>
            <p:nvSpPr>
              <p:cNvPr id="105" name=""/>
              <p:cNvSpPr/>
              <p:nvPr/>
            </p:nvSpPr>
            <p:spPr>
              <a:xfrm>
                <a:off x="4051440" y="3119400"/>
                <a:ext cx="205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PCI-Ultra2 SCSI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049640" y="3271680"/>
                <a:ext cx="3200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dual channel PCI-Ultra2 SCSI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3435480" y="3424320"/>
                <a:ext cx="4933800" cy="2368440"/>
                <a:chOff x="3435480" y="3424320"/>
                <a:chExt cx="4933800" cy="23684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816360" y="4713120"/>
                  <a:ext cx="3429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Achieved SNIA certification for SMI-S provid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025880" y="3881520"/>
                  <a:ext cx="4343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complete line of enterprise-clas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943440" y="4209840"/>
                  <a:ext cx="2819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ANmark 2003 cert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911760" y="4383000"/>
                  <a:ext cx="3429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serial ATA enterprise storag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57560" y="3424320"/>
                  <a:ext cx="228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Debuted Hotscale™ technolog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044960" y="3728880"/>
                  <a:ext cx="2743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Native InfiniBand demonstr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73600" y="455436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SPC-1 result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746520" y="4878360"/>
                  <a:ext cx="403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hipped first production SAS silicon to leading OE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060800" y="3576600"/>
                  <a:ext cx="2666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single chip RAID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992400" y="4046400"/>
                  <a:ext cx="2891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to validate Ultra320 interoperabilit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689280" y="5043600"/>
                  <a:ext cx="3733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4 Gb/s Fibre Channel storage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594240" y="5208480"/>
                  <a:ext cx="4267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hipped first SAS solution to the chann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05320" y="5379840"/>
                  <a:ext cx="4647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Achieved industry’s first SAS Windows qualif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35480" y="5546520"/>
                  <a:ext cx="3294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Sampled industry’s first PCI Express SAS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2959200" y="1290600"/>
              <a:ext cx="4768560" cy="1922760"/>
              <a:chOff x="2959200" y="1290600"/>
              <a:chExt cx="4768560" cy="1922760"/>
            </a:xfrm>
          </p:grpSpPr>
          <p:sp>
            <p:nvSpPr>
              <p:cNvPr id="123" name=""/>
              <p:cNvSpPr/>
              <p:nvPr/>
            </p:nvSpPr>
            <p:spPr>
              <a:xfrm>
                <a:off x="2959200" y="1290600"/>
                <a:ext cx="1904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First RISC-based SCSI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3263760" y="1442880"/>
                <a:ext cx="4464000" cy="1770480"/>
                <a:chOff x="3263760" y="1442880"/>
                <a:chExt cx="4464000" cy="1770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263760" y="1442880"/>
                  <a:ext cx="167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RAID Storage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537000" y="1747800"/>
                  <a:ext cx="228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RAID-assist chip se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854520" y="2205000"/>
                  <a:ext cx="2057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Dual active RAID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025880" y="2814480"/>
                  <a:ext cx="2666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Fibre channel RAID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16400" y="1595520"/>
                  <a:ext cx="3962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multi-mode RAID (0, 1, 3, 5) controller and syst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676680" y="1900080"/>
                  <a:ext cx="2362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Industry’s first wide SCSI interf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013280" y="266220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Caching RAID controll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71720" y="2052720"/>
                  <a:ext cx="259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fully functional PCI-Fast SCSI c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62520" y="2509920"/>
                  <a:ext cx="2514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fully functional PCI-Ultra SCSI c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051440" y="2967120"/>
                  <a:ext cx="3276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Multi-function dual channel PCI-Ultra SCSI c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17880" y="2357280"/>
                  <a:ext cx="3809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ＭＳ Ｐゴシック"/>
                    </a:rPr>
                    <a:t>First intelligent transportable battery backup modul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-12600" y="380880"/>
              <a:ext cx="4572000" cy="5950080"/>
              <a:chOff x="-12600" y="380880"/>
              <a:chExt cx="4572000" cy="59500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rcRect l="0" t="0" r="0" b="7064"/>
              <a:stretch/>
            </p:blipFill>
            <p:spPr>
              <a:xfrm>
                <a:off x="-12600" y="380880"/>
                <a:ext cx="4572000" cy="595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1451160" y="946080"/>
                <a:ext cx="457200" cy="231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46520" y="110160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78160" y="129528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95680" y="15238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8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24280" y="173988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06720" y="194004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14720" y="2298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76560" y="2757600"/>
                <a:ext cx="106704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6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924280" y="329076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7474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199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95680" y="3854520"/>
                <a:ext cx="1400040" cy="642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0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252520" y="4559400"/>
                <a:ext cx="1424160" cy="764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03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59000" y="5318280"/>
                <a:ext cx="207000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2005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63360" y="76320"/>
            <a:ext cx="764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25 Years of Storage Inno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320" y="6238800"/>
            <a:ext cx="8210520" cy="619200"/>
            <a:chOff x="76320" y="6238800"/>
            <a:chExt cx="8210520" cy="619200"/>
          </a:xfrm>
        </p:grpSpPr>
        <p:graphicFrame>
          <p:nvGraphicFramePr>
            <p:cNvPr id="152" name=""/>
            <p:cNvGraphicFramePr/>
            <p:nvPr/>
          </p:nvGraphicFramePr>
          <p:xfrm>
            <a:off x="4043520" y="6272280"/>
            <a:ext cx="757080" cy="585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43520" y="6272280"/>
                      <a:ext cx="757080" cy="5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3124440" y="6248520"/>
              <a:ext cx="6858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76320" y="6429240"/>
              <a:ext cx="83808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1371600" y="6427800"/>
              <a:ext cx="1447920" cy="430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57" name=""/>
            <p:cNvGraphicFramePr/>
            <p:nvPr/>
          </p:nvGraphicFramePr>
          <p:xfrm>
            <a:off x="5257800" y="6238800"/>
            <a:ext cx="1828800" cy="542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57800" y="6238800"/>
                      <a:ext cx="182880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9" name="" descr=""/>
            <p:cNvPicPr/>
            <p:nvPr/>
          </p:nvPicPr>
          <p:blipFill>
            <a:blip r:embed="rId9"/>
            <a:stretch/>
          </p:blipFill>
          <p:spPr>
            <a:xfrm>
              <a:off x="7315200" y="6243480"/>
              <a:ext cx="97164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3996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3200" y="6566040"/>
              <a:ext cx="381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1024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2616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4320" y="656604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287880" y="5829480"/>
            <a:ext cx="51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ame technology, same partners, different name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670572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28600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re than 180 Storage related patents issued and another 160 pend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ipped over 300,000 storage syste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8115480" y="223920"/>
            <a:ext cx="971280" cy="61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68B5-B48D-4E94-BD03-D7D7534740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0920" y="70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SI Logic Products and Marke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97760" y="5132520"/>
            <a:ext cx="1752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Product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16120" y="5132520"/>
            <a:ext cx="175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 Component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44920" y="5132520"/>
            <a:ext cx="1752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 Solution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851040"/>
            <a:ext cx="7099560" cy="4192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1040" y="5132520"/>
            <a:ext cx="17524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enio  Storage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5920" y="6039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Silicon to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C986-A41D-4162-961B-9BD6CBFF3F3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07160" y="5118120"/>
            <a:ext cx="1536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1520" y="41385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8652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8652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08652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1895400" y="58626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2809800" y="5862600"/>
            <a:ext cx="885960" cy="2761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0920" y="85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The Storage Landscap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3195720"/>
            <a:ext cx="83844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041440" y="3500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41800" y="349416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94240" y="2585880"/>
            <a:ext cx="9903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4280040" y="2967120"/>
            <a:ext cx="631800" cy="41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956200" y="4033800"/>
            <a:ext cx="5335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642000" y="3957480"/>
            <a:ext cx="304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18320" y="4414680"/>
            <a:ext cx="53352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108840" y="4338720"/>
            <a:ext cx="806400" cy="365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6870600" y="3424320"/>
            <a:ext cx="978120" cy="911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7099200" y="4414680"/>
            <a:ext cx="414360" cy="1057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1">
            <a:grayscl/>
          </a:blip>
          <a:stretch/>
        </p:blipFill>
        <p:spPr>
          <a:xfrm>
            <a:off x="5575320" y="3805200"/>
            <a:ext cx="631800" cy="415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2"/>
          <a:srcRect l="0" t="0" r="0" b="47557"/>
          <a:stretch/>
        </p:blipFill>
        <p:spPr>
          <a:xfrm>
            <a:off x="6718320" y="3881520"/>
            <a:ext cx="431640" cy="30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198" name=""/>
          <p:cNvSpPr/>
          <p:nvPr/>
        </p:nvSpPr>
        <p:spPr>
          <a:xfrm>
            <a:off x="7451640" y="4398840"/>
            <a:ext cx="66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torag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38760" y="31035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76840" y="3576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57800" y="4475160"/>
            <a:ext cx="8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 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08800" y="34210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4200" y="3905280"/>
            <a:ext cx="4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H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720" y="909720"/>
            <a:ext cx="7653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98040" y="15955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3">
            <a:grayscl/>
          </a:blip>
          <a:stretch/>
        </p:blipFill>
        <p:spPr>
          <a:xfrm>
            <a:off x="469800" y="1824120"/>
            <a:ext cx="414360" cy="1057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41360" y="287496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torag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28880" y="909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4">
            <a:grayscl/>
          </a:blip>
          <a:stretch/>
        </p:blipFill>
        <p:spPr>
          <a:xfrm>
            <a:off x="723960" y="1062000"/>
            <a:ext cx="823680" cy="882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43080" y="985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043520" y="909720"/>
            <a:ext cx="1204920" cy="1743120"/>
            <a:chOff x="4043520" y="909720"/>
            <a:chExt cx="1204920" cy="1743120"/>
          </a:xfrm>
        </p:grpSpPr>
        <p:sp>
          <p:nvSpPr>
            <p:cNvPr id="212" name=""/>
            <p:cNvSpPr/>
            <p:nvPr/>
          </p:nvSpPr>
          <p:spPr>
            <a:xfrm>
              <a:off x="4356360" y="909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5">
              <a:grayscl/>
            </a:blip>
            <a:stretch/>
          </p:blipFill>
          <p:spPr>
            <a:xfrm>
              <a:off x="4043520" y="1214640"/>
              <a:ext cx="693720" cy="11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6">
              <a:grayscl/>
            </a:blip>
            <a:stretch/>
          </p:blipFill>
          <p:spPr>
            <a:xfrm>
              <a:off x="4203720" y="1595520"/>
              <a:ext cx="41436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405320" y="970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84960" y="2229120"/>
              <a:ext cx="66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ff"/>
                  </a:solidFill>
                  <a:latin typeface="Arial"/>
                </a:rPr>
                <a:t>Storage 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32120" y="884160"/>
            <a:ext cx="1128240" cy="1177920"/>
            <a:chOff x="2832120" y="884160"/>
            <a:chExt cx="1128240" cy="1177920"/>
          </a:xfrm>
        </p:grpSpPr>
        <p:sp>
          <p:nvSpPr>
            <p:cNvPr id="218" name=""/>
            <p:cNvSpPr/>
            <p:nvPr/>
          </p:nvSpPr>
          <p:spPr>
            <a:xfrm>
              <a:off x="3136680" y="9093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7"/>
            <a:stretch/>
          </p:blipFill>
          <p:spPr>
            <a:xfrm>
              <a:off x="2832120" y="1062000"/>
              <a:ext cx="99036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8"/>
            <a:srcRect l="0" t="0" r="0" b="47557"/>
            <a:stretch/>
          </p:blipFill>
          <p:spPr>
            <a:xfrm>
              <a:off x="2832120" y="1747800"/>
              <a:ext cx="431640" cy="304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>
                  <a:alpha val="81000"/>
                </a:srgbClr>
              </a:outerShdw>
            </a:effectLst>
          </p:spPr>
        </p:pic>
        <p:sp>
          <p:nvSpPr>
            <p:cNvPr id="221" name=""/>
            <p:cNvSpPr/>
            <p:nvPr/>
          </p:nvSpPr>
          <p:spPr>
            <a:xfrm>
              <a:off x="3180960" y="884160"/>
              <a:ext cx="6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74920" y="1815840"/>
              <a:ext cx="685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ff"/>
                  </a:solidFill>
                  <a:latin typeface="Arial"/>
                </a:rPr>
                <a:t>H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324160" y="1838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H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09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98600" y="934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9"/>
          <a:stretch/>
        </p:blipFill>
        <p:spPr>
          <a:xfrm>
            <a:off x="1994040" y="1087560"/>
            <a:ext cx="990360" cy="906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0">
            <a:grayscl/>
          </a:blip>
          <a:stretch/>
        </p:blipFill>
        <p:spPr>
          <a:xfrm>
            <a:off x="1536840" y="245916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1993680" y="1849320"/>
            <a:ext cx="15228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1"/>
          <a:srcRect l="0" t="0" r="0" b="47557"/>
          <a:stretch/>
        </p:blipFill>
        <p:spPr>
          <a:xfrm>
            <a:off x="1917720" y="1697040"/>
            <a:ext cx="43164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30" name=""/>
          <p:cNvSpPr/>
          <p:nvPr/>
        </p:nvSpPr>
        <p:spPr>
          <a:xfrm>
            <a:off x="1028880" y="2281320"/>
            <a:ext cx="68580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F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6120" y="2732040"/>
            <a:ext cx="66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JB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46320" y="258588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841400" y="3195720"/>
            <a:ext cx="441000" cy="685080"/>
            <a:chOff x="1841400" y="3195720"/>
            <a:chExt cx="441000" cy="685080"/>
          </a:xfrm>
        </p:grpSpPr>
        <p:pic>
          <p:nvPicPr>
            <p:cNvPr id="234" name="" descr=""/>
            <p:cNvPicPr/>
            <p:nvPr/>
          </p:nvPicPr>
          <p:blipFill>
            <a:blip r:embed="rId22">
              <a:grayscl/>
            </a:blip>
            <a:stretch/>
          </p:blipFill>
          <p:spPr>
            <a:xfrm>
              <a:off x="1841400" y="3540960"/>
              <a:ext cx="4410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3">
              <a:grayscl/>
            </a:blip>
            <a:stretch/>
          </p:blipFill>
          <p:spPr>
            <a:xfrm>
              <a:off x="1841400" y="3369600"/>
              <a:ext cx="4410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4">
              <a:grayscl/>
            </a:blip>
            <a:stretch/>
          </p:blipFill>
          <p:spPr>
            <a:xfrm>
              <a:off x="1841400" y="3195720"/>
              <a:ext cx="441000" cy="34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1181160" y="33480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External 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908440" y="2662200"/>
            <a:ext cx="3045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5">
            <a:grayscl/>
          </a:blip>
          <a:stretch/>
        </p:blipFill>
        <p:spPr>
          <a:xfrm>
            <a:off x="2755800" y="3348000"/>
            <a:ext cx="47808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6">
            <a:grayscl/>
          </a:blip>
          <a:stretch/>
        </p:blipFill>
        <p:spPr>
          <a:xfrm>
            <a:off x="2755800" y="3500280"/>
            <a:ext cx="290520" cy="2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41" name=""/>
          <p:cNvSpPr/>
          <p:nvPr/>
        </p:nvSpPr>
        <p:spPr>
          <a:xfrm>
            <a:off x="3009960" y="296712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torag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32080" y="349416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908440" y="1900080"/>
            <a:ext cx="1113840" cy="974880"/>
            <a:chOff x="2908440" y="1900080"/>
            <a:chExt cx="1113840" cy="974880"/>
          </a:xfrm>
        </p:grpSpPr>
        <p:sp>
          <p:nvSpPr>
            <p:cNvPr id="244" name=""/>
            <p:cNvSpPr/>
            <p:nvPr/>
          </p:nvSpPr>
          <p:spPr>
            <a:xfrm>
              <a:off x="3060360" y="1900080"/>
              <a:ext cx="228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" descr=""/>
            <p:cNvPicPr/>
            <p:nvPr/>
          </p:nvPicPr>
          <p:blipFill>
            <a:blip r:embed="rId27"/>
            <a:stretch/>
          </p:blipFill>
          <p:spPr>
            <a:xfrm>
              <a:off x="2908440" y="2509560"/>
              <a:ext cx="8060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79520" y="2317680"/>
              <a:ext cx="84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C 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441600" y="2679840"/>
            <a:ext cx="45720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8"/>
          <a:stretch/>
        </p:blipFill>
        <p:spPr>
          <a:xfrm>
            <a:off x="3517920" y="3670200"/>
            <a:ext cx="838080" cy="265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300560" y="3713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95840" y="9270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9"/>
          <a:stretch/>
        </p:blipFill>
        <p:spPr>
          <a:xfrm>
            <a:off x="5295960" y="1071720"/>
            <a:ext cx="990720" cy="90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610600" y="8841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0">
            <a:grayscl/>
          </a:blip>
          <a:stretch/>
        </p:blipFill>
        <p:spPr>
          <a:xfrm>
            <a:off x="5445000" y="1539720"/>
            <a:ext cx="290520" cy="2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54" name=""/>
          <p:cNvSpPr/>
          <p:nvPr/>
        </p:nvSpPr>
        <p:spPr>
          <a:xfrm>
            <a:off x="4937040" y="1579680"/>
            <a:ext cx="66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43960" y="919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1"/>
          <a:stretch/>
        </p:blipFill>
        <p:spPr>
          <a:xfrm>
            <a:off x="7443720" y="1063800"/>
            <a:ext cx="990720" cy="906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758360" y="87624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2">
            <a:grayscl/>
          </a:blip>
          <a:stretch/>
        </p:blipFill>
        <p:spPr>
          <a:xfrm>
            <a:off x="7593120" y="1531800"/>
            <a:ext cx="290520" cy="22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59" name=""/>
          <p:cNvSpPr/>
          <p:nvPr/>
        </p:nvSpPr>
        <p:spPr>
          <a:xfrm>
            <a:off x="7962840" y="1290600"/>
            <a:ext cx="66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k Dr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280640" y="1960560"/>
            <a:ext cx="148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PCI R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RAID on Mother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8880" y="91584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33"/>
          <a:stretch/>
        </p:blipFill>
        <p:spPr>
          <a:xfrm>
            <a:off x="6303960" y="1068480"/>
            <a:ext cx="990720" cy="906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4">
            <a:grayscl/>
          </a:blip>
          <a:stretch/>
        </p:blipFill>
        <p:spPr>
          <a:xfrm>
            <a:off x="5846760" y="2440080"/>
            <a:ext cx="838080" cy="307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303600" y="1830240"/>
            <a:ext cx="15228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5"/>
          <a:srcRect l="0" t="0" r="0" b="47557"/>
          <a:stretch/>
        </p:blipFill>
        <p:spPr>
          <a:xfrm>
            <a:off x="6227640" y="1677960"/>
            <a:ext cx="432000" cy="30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81000"/>
              </a:srgbClr>
            </a:outerShdw>
          </a:effectLst>
        </p:spPr>
      </p:pic>
      <p:sp>
        <p:nvSpPr>
          <p:cNvPr id="266" name=""/>
          <p:cNvSpPr/>
          <p:nvPr/>
        </p:nvSpPr>
        <p:spPr>
          <a:xfrm>
            <a:off x="5910120" y="1947960"/>
            <a:ext cx="68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C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6040" y="271296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JB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59280" y="1801800"/>
            <a:ext cx="73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ff"/>
                </a:solidFill>
                <a:latin typeface="Arial"/>
              </a:rPr>
              <a:t>PCI R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20120" y="89388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8600" y="19000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6"/>
          <a:stretch/>
        </p:blipFill>
        <p:spPr>
          <a:xfrm>
            <a:off x="3676680" y="5910120"/>
            <a:ext cx="1085760" cy="181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7"/>
          <a:stretch/>
        </p:blipFill>
        <p:spPr>
          <a:xfrm>
            <a:off x="419040" y="5850000"/>
            <a:ext cx="1371600" cy="317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8"/>
          <a:stretch/>
        </p:blipFill>
        <p:spPr>
          <a:xfrm>
            <a:off x="41904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9"/>
          <a:stretch/>
        </p:blipFill>
        <p:spPr>
          <a:xfrm>
            <a:off x="419040" y="44910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0"/>
          <a:stretch/>
        </p:blipFill>
        <p:spPr>
          <a:xfrm>
            <a:off x="1362240" y="44910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1"/>
          <a:stretch/>
        </p:blipFill>
        <p:spPr>
          <a:xfrm>
            <a:off x="3390840" y="4130640"/>
            <a:ext cx="1067040" cy="331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2"/>
          <a:stretch/>
        </p:blipFill>
        <p:spPr>
          <a:xfrm>
            <a:off x="1362240" y="482436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3"/>
          <a:stretch/>
        </p:blipFill>
        <p:spPr>
          <a:xfrm>
            <a:off x="4867200" y="58626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4"/>
          <a:stretch/>
        </p:blipFill>
        <p:spPr>
          <a:xfrm>
            <a:off x="41904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5"/>
          <a:stretch/>
        </p:blipFill>
        <p:spPr>
          <a:xfrm>
            <a:off x="1346040" y="4152960"/>
            <a:ext cx="914400" cy="285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6"/>
          <a:stretch/>
        </p:blipFill>
        <p:spPr>
          <a:xfrm>
            <a:off x="334332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7"/>
          <a:stretch/>
        </p:blipFill>
        <p:spPr>
          <a:xfrm>
            <a:off x="235260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8"/>
          <a:stretch/>
        </p:blipFill>
        <p:spPr>
          <a:xfrm>
            <a:off x="1362240" y="551016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9"/>
          <a:stretch/>
        </p:blipFill>
        <p:spPr>
          <a:xfrm>
            <a:off x="1362240" y="51768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0"/>
          <a:stretch/>
        </p:blipFill>
        <p:spPr>
          <a:xfrm>
            <a:off x="334332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1"/>
          <a:stretch/>
        </p:blipFill>
        <p:spPr>
          <a:xfrm>
            <a:off x="430524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2"/>
          <a:stretch/>
        </p:blipFill>
        <p:spPr>
          <a:xfrm>
            <a:off x="430524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3"/>
          <a:stretch/>
        </p:blipFill>
        <p:spPr>
          <a:xfrm>
            <a:off x="5295960" y="51768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4"/>
          <a:stretch/>
        </p:blipFill>
        <p:spPr>
          <a:xfrm>
            <a:off x="430524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5"/>
          <a:stretch/>
        </p:blipFill>
        <p:spPr>
          <a:xfrm>
            <a:off x="3343320" y="44910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6"/>
          <a:stretch/>
        </p:blipFill>
        <p:spPr>
          <a:xfrm>
            <a:off x="4305240" y="4519440"/>
            <a:ext cx="885960" cy="276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7"/>
          <a:stretch/>
        </p:blipFill>
        <p:spPr>
          <a:xfrm>
            <a:off x="5295960" y="4519440"/>
            <a:ext cx="885600" cy="276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8"/>
          <a:stretch/>
        </p:blipFill>
        <p:spPr>
          <a:xfrm>
            <a:off x="5829480" y="586260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9"/>
          <a:stretch/>
        </p:blipFill>
        <p:spPr>
          <a:xfrm>
            <a:off x="5295960" y="4824360"/>
            <a:ext cx="885600" cy="276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0"/>
          <a:stretch/>
        </p:blipFill>
        <p:spPr>
          <a:xfrm>
            <a:off x="7734240" y="587844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1"/>
          <a:stretch/>
        </p:blipFill>
        <p:spPr>
          <a:xfrm>
            <a:off x="6784920" y="58626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62"/>
          <a:stretch/>
        </p:blipFill>
        <p:spPr>
          <a:xfrm>
            <a:off x="235260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3"/>
          <a:stretch/>
        </p:blipFill>
        <p:spPr>
          <a:xfrm>
            <a:off x="334332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64"/>
          <a:stretch/>
        </p:blipFill>
        <p:spPr>
          <a:xfrm>
            <a:off x="41904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5"/>
          <a:stretch/>
        </p:blipFill>
        <p:spPr>
          <a:xfrm>
            <a:off x="677232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6"/>
          <a:stretch/>
        </p:blipFill>
        <p:spPr>
          <a:xfrm>
            <a:off x="773424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7"/>
          <a:stretch/>
        </p:blipFill>
        <p:spPr>
          <a:xfrm>
            <a:off x="2352600" y="48243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68"/>
          <a:stretch/>
        </p:blipFill>
        <p:spPr>
          <a:xfrm>
            <a:off x="5324400" y="551016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69"/>
          <a:stretch/>
        </p:blipFill>
        <p:spPr>
          <a:xfrm>
            <a:off x="7734240" y="5176800"/>
            <a:ext cx="885960" cy="276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70"/>
          <a:stretch/>
        </p:blipFill>
        <p:spPr>
          <a:xfrm>
            <a:off x="7734240" y="4871880"/>
            <a:ext cx="885960" cy="2764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1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9716-E8AE-4483-84FF-1EF4F573D3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68560" y="4510080"/>
            <a:ext cx="674640" cy="290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92320" y="3505320"/>
            <a:ext cx="674640" cy="304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66760" y="1176480"/>
            <a:ext cx="7977240" cy="2826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20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2008                    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960" y="11448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Technology Roadmap – Industry View</a:t>
            </a:r>
            <a:br>
              <a:rPr sz="3200"/>
            </a:b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60" y="4857840"/>
            <a:ext cx="1055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k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rive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378160"/>
            <a:ext cx="990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st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12240" y="1206360"/>
            <a:ext cx="4680" cy="5643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840280" y="1228680"/>
            <a:ext cx="7920" cy="558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49600" y="1193760"/>
            <a:ext cx="0" cy="5583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097760" y="1447920"/>
            <a:ext cx="9360" cy="53575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41160" y="1422360"/>
            <a:ext cx="12600" cy="53974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53080" y="1413000"/>
            <a:ext cx="0" cy="54165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161720" y="1417680"/>
            <a:ext cx="11160" cy="5394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749760"/>
            <a:ext cx="1108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pansion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480" y="5942160"/>
            <a:ext cx="10918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ernal D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9440" y="1498680"/>
            <a:ext cx="7324560" cy="337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 Gb 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77920" y="1500120"/>
            <a:ext cx="674640" cy="336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51120" y="3959280"/>
            <a:ext cx="6364440" cy="3070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86640" y="3956040"/>
            <a:ext cx="2397240" cy="316080"/>
          </a:xfrm>
          <a:prstGeom prst="rtTriangl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8040" y="4513320"/>
            <a:ext cx="736596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143720" y="4511520"/>
            <a:ext cx="638280" cy="301680"/>
          </a:xfrm>
          <a:prstGeom prst="rtTriangl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71440" y="5423040"/>
            <a:ext cx="409680" cy="30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5840" y="4970520"/>
            <a:ext cx="2560680" cy="307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98440" y="6062760"/>
            <a:ext cx="6907320" cy="30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.5” Low Profile (7.2K – 15K RP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97000" y="2576520"/>
            <a:ext cx="3498840" cy="307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Gb iSC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99000" y="6458040"/>
            <a:ext cx="364500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.5” High R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197080" y="6453360"/>
            <a:ext cx="3300480" cy="33804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97000" y="2209680"/>
            <a:ext cx="749160" cy="274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73960" y="2200320"/>
            <a:ext cx="692280" cy="287280"/>
          </a:xfrm>
          <a:prstGeom prst="rtTriangl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73520" y="2576520"/>
            <a:ext cx="447048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352600" y="2570040"/>
            <a:ext cx="2330640" cy="31752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18120" y="257328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Gb iSC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rot="21576600">
            <a:off x="5547960" y="1487160"/>
            <a:ext cx="3594240" cy="342720"/>
          </a:xfrm>
          <a:prstGeom prst="rtTriangle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54360" y="2212920"/>
            <a:ext cx="7289640" cy="2746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146320"/>
            <a:ext cx="203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Gb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02080" y="2219400"/>
            <a:ext cx="47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Gb DDR 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rot="21576600">
            <a:off x="4825440" y="3963600"/>
            <a:ext cx="3273120" cy="30168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00360" y="4959360"/>
            <a:ext cx="6443640" cy="3070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1184400" y="4951440"/>
            <a:ext cx="1549440" cy="320760"/>
          </a:xfrm>
          <a:prstGeom prst="rtTriangl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rot="21576600">
            <a:off x="4957200" y="4960440"/>
            <a:ext cx="3147840" cy="30132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66040" y="1490760"/>
            <a:ext cx="701640" cy="345960"/>
          </a:xfrm>
          <a:prstGeom prst="rtTriangl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78120" y="2959200"/>
            <a:ext cx="5832360" cy="30708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95560" y="2955960"/>
            <a:ext cx="1606320" cy="306360"/>
          </a:xfrm>
          <a:prstGeom prst="rtTriangle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rot="21576600">
            <a:off x="5262480" y="2970360"/>
            <a:ext cx="2889360" cy="303120"/>
          </a:xfrm>
          <a:prstGeom prst="rtTriangl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703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42116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80" y="5824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93120" y="151596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78040" y="3505320"/>
            <a:ext cx="7365960" cy="3070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219320" y="3505320"/>
            <a:ext cx="636480" cy="304560"/>
          </a:xfrm>
          <a:prstGeom prst="rtTriangl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1158840" y="5423040"/>
            <a:ext cx="434880" cy="311040"/>
          </a:xfrm>
          <a:prstGeom prst="rtTriangl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55920" y="5424480"/>
            <a:ext cx="6597360" cy="3070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Gb S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21576600">
            <a:off x="5624280" y="3503520"/>
            <a:ext cx="3517920" cy="342720"/>
          </a:xfrm>
          <a:prstGeom prst="rtTriangle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88160" y="3535200"/>
            <a:ext cx="13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 Gb 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21576600">
            <a:off x="4956120" y="5443200"/>
            <a:ext cx="3144960" cy="301680"/>
          </a:xfrm>
          <a:prstGeom prst="rtTriangle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7640" y="14367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G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0920" y="5367240"/>
            <a:ext cx="126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b 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096400" y="6058080"/>
            <a:ext cx="1047600" cy="314280"/>
          </a:xfrm>
          <a:prstGeom prst="rtTriangl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91360" y="4950000"/>
            <a:ext cx="1052640" cy="307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91360" y="3959280"/>
            <a:ext cx="1052640" cy="304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91360" y="5425920"/>
            <a:ext cx="1052640" cy="30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S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091360" y="2940120"/>
            <a:ext cx="1052640" cy="336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Gb 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5040" y="446580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G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4640" y="344340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G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9218-5C86-4C9C-AEF8-8A97DCB1CB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36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SI 6498 Overview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1520" y="1469880"/>
            <a:ext cx="6889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Redundant XBB architecture with Nativ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 Host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10 Gb/s InfiniB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-side interfac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ht 4 Gb/s Fibre 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-side interfaces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up to 224 FC and/or SATA disk driv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TB Capac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d drive modules reduce latency and improve RA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SI storage systems technologies are available through OEM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Management Interfa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943680" y="1398600"/>
            <a:ext cx="1711440" cy="39117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405240" y="1868400"/>
            <a:ext cx="2886120" cy="12574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143240" y="4653000"/>
            <a:ext cx="2133720" cy="16635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8115480" y="249120"/>
            <a:ext cx="971280" cy="6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670E-9CE7-4DB9-BC9F-DA03D89552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Customer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rly Adopt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ong opinions about direc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isted on co-development or alpha-level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ut resulting product into production and have not upgra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overnment Agencies and/or Lab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-development with very large test be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inue to push the technology to the lim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ave vision beyond capabilities of current generation of produ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771D-70D0-4AF0-89F8-D52266C8A5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5680" y="8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InfiniBand – Customer Experien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mercial Custom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less expensive alterna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performance enhancements beyond existing alternativ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id systems becoming more viable as applications are develop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rass-roots Effor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OEM Partners are just now deciding it is a viable solu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me Partners’ internal labs have been testing for month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erating demand from with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6040" y="5907240"/>
            <a:ext cx="971640" cy="61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4940-01E4-4713-8F38-6082180A06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dellis</cp:lastModifiedBy>
  <cp:lastPrinted>1998-06-24T21:45:20Z</cp:lastPrinted>
  <dcterms:modified xsi:type="dcterms:W3CDTF">2006-09-22T22:23:19Z</dcterms:modified>
  <cp:revision>70</cp:revision>
  <dc:subject/>
  <dc:title>PowerPoint Presentation</dc:title>
</cp:coreProperties>
</file>