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5433-2708-4EDC-B153-9930F9A56911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vn.open-mpi.org/svn/ompi/trunk/NEWS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openfabrics-ewg@openib.org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openfabrics-ewg@openib.org" TargetMode="External"/><Relationship Id="rId2" Type="http://schemas.openxmlformats.org/officeDocument/2006/relationships/hyperlink" Target="https://openib.org/svn/gen2/branches/1.1/src/" TargetMode="External"/><Relationship Id="rId3" Type="http://schemas.openxmlformats.org/officeDocument/2006/relationships/hyperlink" Target="http://openib.org/bugzilla/" TargetMode="External"/><Relationship Id="rId4" Type="http://schemas.openxmlformats.org/officeDocument/2006/relationships/hyperlink" Target="http://openib.org/bugzilla/" TargetMode="External"/><Relationship Id="rId5" Type="http://schemas.openxmlformats.org/officeDocument/2006/relationships/hyperlink" Target="http://openib.org/bugzilla/" TargetMode="Externa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penFabrics Enterprise Distribution (OFED) Update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676160" y="5105160"/>
            <a:ext cx="5638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mie Riotto, Cis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jal Das, Mellan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25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BTA-OFA DevCon 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ED v1.1 Enhancements (3 of 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57200" y="1523880"/>
          <a:ext cx="8077320" cy="4697640"/>
        </p:xfrm>
        <a:graphic>
          <a:graphicData uri="http://schemas.openxmlformats.org/drawingml/2006/table">
            <a:tbl>
              <a:tblPr/>
              <a:tblGrid>
                <a:gridCol w="3505320"/>
                <a:gridCol w="457200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nent/Platfo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ED 1.1 enhance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U MP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sage rate improve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 MP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http://svn.open-mpi.org/svn/ompi/trunk/NEW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I tests/ benchmar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 Pallas, Presta, OSU (new version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D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d BW, latency, stability, OOB Snd/Rc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 Query, Grouping in IB Net Discover, IB Utilities (Port error/performance counters check/dump, Link width and link speed check by flag), Mad Ey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v1.1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C6 regression testing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imminent – End of Sep 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e used for OFA Interoperability Event at UNH (week of Oct 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improvement discussions / post mortem planned after rel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S and RHEL updates with OFED 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ED Fu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availability improvements: IPoIB, S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, scalability improvements: IPoIB, SDP, M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cle open source 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WARP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FS-RDMA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ED for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ase send feature requirements to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penfabrics-ewg@openib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l to 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iniBand suppli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OFED part of your core off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 “enterprise readines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 full interoperability and help accelerate standard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WARP suppli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 OFA, open source your drivers and integrate with OF S/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Vend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nks for adopting, please upgrade with new OFED rel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Vs and End-u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ease provide feedback on what is la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urage proprietary stacks – let’s move quickly toward standardized RDMA sta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ED – background,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ED v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to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ground, Purp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prise work group formed – April, ’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on among InfiniBand supp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2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IBM, Mellanox, QLogic, SilverStorm, Volt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2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support from Sandia, Intel, OS vendors,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stack, commercially suppor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ope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ergy with kernel and OS vendor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ED v1.0 released in Ju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s in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penfabrics-ewg@openib.or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elecon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ture agreements, process discussions, test status reporting, release candidates, source freeze, collabor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proc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space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openib.org/svn/gen2/branches/1.1/src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nel: git://www.mellanox.co.il/~git/infiniband  ofed_1_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g reporting: bugzilla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openib.org/bugzilla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ccess Story – OFED 1.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 collaborative development and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, schedules worked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espread testing, adoption of OFED 1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users, Server OEMs, Red Hat, Novell/S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ization software and ISV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public announcements showing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66680" y="380880"/>
            <a:ext cx="5953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nFabrics Software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286760" y="1371600"/>
          <a:ext cx="1724040" cy="4114800"/>
        </p:xfrm>
        <a:graphic>
          <a:graphicData uri="http://schemas.openxmlformats.org/drawingml/2006/table">
            <a:tbl>
              <a:tblPr/>
              <a:tblGrid>
                <a:gridCol w="542880"/>
                <a:gridCol w="1181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net Administra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 Datagr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net Manager Ag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ance Manager Ag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oI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 over InfiniBa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D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kets Direct Protoc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SI RDMA Protocol (Initiator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CSI RDMA Protocol (Initiator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able Datagram Serv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DAP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r Direct Access Programming Li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 Channel Adap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-N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DMA N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7286760" y="5524560"/>
            <a:ext cx="1724040" cy="799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716960" y="5586480"/>
            <a:ext cx="600120" cy="18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716960" y="5832360"/>
            <a:ext cx="600120" cy="18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finiB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716960" y="6078600"/>
            <a:ext cx="618840" cy="183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WAR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286760" y="5586480"/>
            <a:ext cx="70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K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1386000"/>
            <a:ext cx="7086600" cy="1628640"/>
          </a:xfrm>
          <a:prstGeom prst="rect">
            <a:avLst/>
          </a:prstGeom>
          <a:gradFill rotWithShape="0">
            <a:gsLst>
              <a:gs pos="0">
                <a:srgbClr val="6600cc">
                  <a:alpha val="20000"/>
                </a:srgbClr>
              </a:gs>
              <a:gs pos="100000">
                <a:srgbClr val="2f005e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048120"/>
            <a:ext cx="7086600" cy="2819160"/>
          </a:xfrm>
          <a:prstGeom prst="rect">
            <a:avLst/>
          </a:prstGeom>
          <a:gradFill rotWithShape="0">
            <a:gsLst>
              <a:gs pos="0">
                <a:srgbClr val="ccffcc">
                  <a:alpha val="20000"/>
                </a:srgbClr>
              </a:gs>
              <a:gs pos="100000">
                <a:srgbClr val="5e755e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5943600"/>
            <a:ext cx="137160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finiBand H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5943600"/>
            <a:ext cx="38088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8120" y="5943600"/>
            <a:ext cx="38088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5943600"/>
            <a:ext cx="1447920" cy="304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iWARP R-N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5943600"/>
            <a:ext cx="381240" cy="304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5943600"/>
            <a:ext cx="381240" cy="304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5410080"/>
            <a:ext cx="1371600" cy="381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ardw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pecific Dr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38680" y="5410080"/>
            <a:ext cx="144792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ardware Specif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r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90920" y="5410080"/>
            <a:ext cx="380880" cy="381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8120" y="5410080"/>
            <a:ext cx="380880" cy="381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5410080"/>
            <a:ext cx="38124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24280" y="5410080"/>
            <a:ext cx="38124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4448160"/>
            <a:ext cx="685800" cy="352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nection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a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05320" y="5943600"/>
            <a:ext cx="38088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05320" y="5410080"/>
            <a:ext cx="380880" cy="381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81480" y="5943600"/>
            <a:ext cx="381240" cy="304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5410080"/>
            <a:ext cx="38124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62000" y="4343400"/>
            <a:ext cx="390600" cy="457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1760" y="4876920"/>
            <a:ext cx="5057640" cy="304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finiBand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      OpenFabrics Kernel Level Verbs / API                        iWAR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71760" y="4343400"/>
            <a:ext cx="361800" cy="457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19720" y="4438800"/>
            <a:ext cx="76176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n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a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38560" y="3990960"/>
            <a:ext cx="1676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nection Mana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bstraction (CM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2509920"/>
            <a:ext cx="5715000" cy="2188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finiBan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penFabrics User Level    Verbs / AP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iWAR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342432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D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3424320"/>
            <a:ext cx="457200" cy="380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PoI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342432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R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432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76920" y="342432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29040" y="2795760"/>
            <a:ext cx="552240" cy="19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DP Li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14520" y="2185920"/>
            <a:ext cx="8478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ser Level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D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14480" y="1805040"/>
            <a:ext cx="43812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pen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14520" y="1805040"/>
            <a:ext cx="34272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o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5867280"/>
            <a:ext cx="7086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529596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390528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2280" y="314784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9436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ard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54100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2280" y="42670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d-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3227400"/>
            <a:ext cx="99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pper Layer 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245268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r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52480" y="31240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Kernel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27432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User Spa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10080" y="3424320"/>
            <a:ext cx="68580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NFS-RD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P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72200" y="3424320"/>
            <a:ext cx="60948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lu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File Sy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2286000"/>
            <a:ext cx="0" cy="51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38480" y="19191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10080" y="1919160"/>
            <a:ext cx="0" cy="135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1919160"/>
            <a:ext cx="9360" cy="6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1477800"/>
            <a:ext cx="1104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plication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ev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19920" y="1919160"/>
            <a:ext cx="0" cy="44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00800" y="1919160"/>
            <a:ext cx="0" cy="151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191916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14800" y="3271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14800" y="3271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986200"/>
            <a:ext cx="0" cy="43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1919160"/>
            <a:ext cx="0" cy="150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038480" y="242424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0760" y="4343400"/>
            <a:ext cx="380880" cy="447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05520" y="3271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05520" y="3271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181480" y="1461960"/>
            <a:ext cx="68580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luster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DB Acc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00400" y="1461960"/>
            <a:ext cx="60948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ocke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ased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86200" y="1461960"/>
            <a:ext cx="53352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Vario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P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943600" y="1461960"/>
            <a:ext cx="60948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ccess 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ystem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1461960"/>
            <a:ext cx="60984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lo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tor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14600" y="1461960"/>
            <a:ext cx="60948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P Bas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p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2280" y="1371600"/>
            <a:ext cx="7086600" cy="4952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2280" y="214776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364600" y="5586480"/>
            <a:ext cx="600120" cy="6699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pps &amp;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ethods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or using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OF St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7600" y="222408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DAP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352680" y="2066760"/>
            <a:ext cx="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2286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5790960" y="2362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91320" y="2362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27432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934320" y="27432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54920" y="45626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bypa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6200000">
            <a:off x="6317640" y="45626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bypa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62040" y="4276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09720" y="2733840"/>
            <a:ext cx="0" cy="153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066680" y="380880"/>
            <a:ext cx="5953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ED 1.0 and 1.1 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7286760" y="1371600"/>
          <a:ext cx="1724040" cy="4114800"/>
        </p:xfrm>
        <a:graphic>
          <a:graphicData uri="http://schemas.openxmlformats.org/drawingml/2006/table">
            <a:tbl>
              <a:tblPr/>
              <a:tblGrid>
                <a:gridCol w="542880"/>
                <a:gridCol w="1181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net Administra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 Datagr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net Manager Ag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ance Manager Ag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oI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 over InfiniBa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D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kets Direct Protoc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SI RDMA Protocol (Initiator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CSI RDMA Protocol (Initiator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able Datagram Serv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DAP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r Direct Access Programming Li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 Channel Adap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-N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DMA N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7286760" y="5524560"/>
            <a:ext cx="1724040" cy="799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16960" y="5586480"/>
            <a:ext cx="600120" cy="18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716960" y="5832360"/>
            <a:ext cx="600120" cy="18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finiB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16960" y="6078600"/>
            <a:ext cx="618840" cy="183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WAR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86760" y="5586480"/>
            <a:ext cx="70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K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2280" y="1386000"/>
            <a:ext cx="7086600" cy="1628640"/>
          </a:xfrm>
          <a:prstGeom prst="rect">
            <a:avLst/>
          </a:prstGeom>
          <a:gradFill rotWithShape="0">
            <a:gsLst>
              <a:gs pos="0">
                <a:srgbClr val="6600cc">
                  <a:alpha val="20000"/>
                </a:srgbClr>
              </a:gs>
              <a:gs pos="100000">
                <a:srgbClr val="2f005e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2280" y="3048120"/>
            <a:ext cx="7086600" cy="2819160"/>
          </a:xfrm>
          <a:prstGeom prst="rect">
            <a:avLst/>
          </a:prstGeom>
          <a:gradFill rotWithShape="0">
            <a:gsLst>
              <a:gs pos="0">
                <a:srgbClr val="ccffcc">
                  <a:alpha val="20000"/>
                </a:srgbClr>
              </a:gs>
              <a:gs pos="100000">
                <a:srgbClr val="5e755e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5943600"/>
            <a:ext cx="137160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BM H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43000" y="5410080"/>
            <a:ext cx="1371600" cy="381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ardw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pecific Dr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048120" y="4448160"/>
            <a:ext cx="685800" cy="352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nection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a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62000" y="4343400"/>
            <a:ext cx="3906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71760" y="4876920"/>
            <a:ext cx="399096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finiBand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      OpenFabrics Kernel Level Verbs /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571760" y="4343400"/>
            <a:ext cx="3618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38560" y="3990960"/>
            <a:ext cx="1676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nection Mana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bstraction (CM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2509920"/>
            <a:ext cx="4191120" cy="21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finiBan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penFabrics User Level    Verbs / AP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3424320"/>
            <a:ext cx="3812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D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3424320"/>
            <a:ext cx="4572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PoI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342432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R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19720" y="3424320"/>
            <a:ext cx="3808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29040" y="2795760"/>
            <a:ext cx="552240" cy="19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DP Li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14520" y="2185920"/>
            <a:ext cx="8478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ser Level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D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14480" y="1805040"/>
            <a:ext cx="43812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pen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514520" y="1805040"/>
            <a:ext cx="34272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o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5867280"/>
            <a:ext cx="7086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52280" y="529596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390528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314784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2280" y="59436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ard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2280" y="54100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52280" y="42670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d-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2280" y="3227400"/>
            <a:ext cx="99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pper Layer 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245268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r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752480" y="31240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Kernel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81080" y="27432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User Spa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2286000"/>
            <a:ext cx="0" cy="51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038480" y="19191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343400" y="1919160"/>
            <a:ext cx="9360" cy="6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1477800"/>
            <a:ext cx="1104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plication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ev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648320" y="191916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114800" y="3271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14800" y="3271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76720" y="2986200"/>
            <a:ext cx="0" cy="43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19520" y="1919160"/>
            <a:ext cx="0" cy="150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038480" y="242424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390760" y="4343400"/>
            <a:ext cx="380880" cy="447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1461960"/>
            <a:ext cx="53352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Vario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P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52280" y="1371600"/>
            <a:ext cx="7086600" cy="4952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2280" y="214776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64600" y="5586480"/>
            <a:ext cx="600120" cy="6699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pps &amp;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ethods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or using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OF St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57600" y="222408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DAP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352680" y="2066760"/>
            <a:ext cx="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124080" y="2286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371600" y="27432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6200000">
            <a:off x="754920" y="45626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bypa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562040" y="4276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809720" y="2733840"/>
            <a:ext cx="0" cy="153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495680" y="1461960"/>
            <a:ext cx="60984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lo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tor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00400" y="1461960"/>
            <a:ext cx="60948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ocke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ased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14600" y="1461960"/>
            <a:ext cx="60948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P Bas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p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90920" y="5943600"/>
            <a:ext cx="137160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ellanox H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90920" y="5410080"/>
            <a:ext cx="1371600" cy="381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ardw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pecific Dr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038480" y="5943600"/>
            <a:ext cx="137160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QLogic H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038480" y="5410080"/>
            <a:ext cx="1371600" cy="381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ardw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pecific Dr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76920" y="342432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Arial"/>
              </a:rPr>
              <a:t>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ED v1.1 Enhancements (1 of 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457200" y="1600200"/>
          <a:ext cx="8077320" cy="4359240"/>
        </p:xfrm>
        <a:graphic>
          <a:graphicData uri="http://schemas.openxmlformats.org/drawingml/2006/table">
            <a:tbl>
              <a:tblPr/>
              <a:tblGrid>
                <a:gridCol w="3505320"/>
                <a:gridCol w="4572000"/>
              </a:tblGrid>
              <a:tr h="60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nent/Platfo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ED 1.1 enhance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kernel 2.6.1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ES 9 SP3, SLES 10, RHEL 4 U3 and U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U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86_64, x86, IA64, PPC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bit librar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x86_64 and PPC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ivers/HC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M, Mellanox, QLog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rnel hot plug support in uverb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ED v1.1 Enhancements (2 of 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457200" y="1523880"/>
          <a:ext cx="8077320" cy="4735440"/>
        </p:xfrm>
        <a:graphic>
          <a:graphicData uri="http://schemas.openxmlformats.org/drawingml/2006/table">
            <a:tbl>
              <a:tblPr/>
              <a:tblGrid>
                <a:gridCol w="3505320"/>
                <a:gridCol w="4572000"/>
              </a:tblGrid>
              <a:tr h="51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nent/Platfo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ED 1.1 enhance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 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tion manager, pre-computed routing lo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oI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availability (HA) using user level daem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bility fixes, HA with DM, MPP, XV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bility, performance, PPC64 and IA64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DAP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ability for Intel MP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23:52:27Z</dcterms:created>
  <dc:creator>Tom Tucker</dc:creator>
  <dc:description/>
  <dc:language>en-US</dc:language>
  <cp:lastModifiedBy>Sujal</cp:lastModifiedBy>
  <dcterms:modified xsi:type="dcterms:W3CDTF">2006-09-25T03:11:38Z</dcterms:modified>
  <cp:revision>39</cp:revision>
  <dc:subject/>
  <dc:title>iWARP Status</dc:title>
</cp:coreProperties>
</file>