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51A0-EDB8-4978-88D4-F5F6438DC127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WARP Statu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iWARP CM 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stack port spac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ports consumed by native stack will be seen by the iWARP CM and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D/OR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inbound and outbound limits exchanged in private data at connection establishment -- needs IET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can-do approach implemented with conn_req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2#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 events expanded to included peer’s advertised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_req parameters are absolutes and connect/accept fails if they can’t be hon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CM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mode 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p_listen, llp_connect, llp_accept, llp_send, llp_recv (needed for iSER spec. compli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create_from_fd - returns bound rdma_cm_id from so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port Neutral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Krishna Kumar &lt;krkumar2@in.ibm.co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patches against iWARP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v_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dma_ for all data types and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wider review,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DMA System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WARP is not an IP protocol so it shares the TCP port space like imap, or 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need the ability to specify when to use RDMA vs. TCP for multi-transpor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/etc/services,  portm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TF proposal for RDMA services names and port numbers, e.g. “rnf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er Vendor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contribute more than just your devic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$$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eed our engineers under the door, but their kids at home eat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interested, let us know. There’s plenty to 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Fabrics SV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 in separate branch in S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with trunk as of SVN 76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two iWARP RNICs currently in the tr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io T3 - single and dual port 1 and 10GbE R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C AMSO1100 - single port 1GbE 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ncludes all IB devices from main tr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being merged into Roland’s for-2.6.19 bra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changes to ib_verbs and rdma_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 Connec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O1100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Devic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of likely kernel.org inte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SO1100 1Gb R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starting point for new develop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driver in iWARP branch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ed for kernel.org 2.6.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d dual port 1GbE and 10GbE R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ource driver in in iWARP branch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ed for kernel.org in 2.6.2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ort 10GbE RNIC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available through Beta evalua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Merge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pstream merge into 2.6.19 kerne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-port upstream code into SVN main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Chelsio and any other devices not upstream to main t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iWARP support in subsequent OFED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WARP Branch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nnounced activity from other RNIC vendo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rom interested develop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core support for optional devi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verbs, WR 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WARP CM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device attribute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ULP, storage and middleware applic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Transport Neutral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, well understood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run on any device and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an take advantage of transport and/or vendor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 queried at run-time, not discovered by trial and err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onal Featu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fields in a capabilities m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pointers (potentially null) in the device func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fields used to indicate whether a particular feature implemented as an SQ WR is present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lidate ST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Read and Inval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MA Write with 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Pointers used for features implemented as Verb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anded Device Attribu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relevant device attributes are exported currently,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MA_READ SGE limit_x0003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_MR siz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ttributes need to be added to the device attributes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pace clean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naming of min/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scriptiv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Tom Tucker</cp:lastModifiedBy>
  <dcterms:modified xsi:type="dcterms:W3CDTF">2006-09-21T23:59:20Z</dcterms:modified>
  <cp:revision>2</cp:revision>
  <dc:subject/>
  <dc:title>iWARP Status</dc:title>
</cp:coreProperties>
</file>