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955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919320" y="-360"/>
            <a:ext cx="29955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3800" y="690480"/>
            <a:ext cx="4608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20520" y="4378320"/>
            <a:ext cx="50720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751600"/>
            <a:ext cx="29955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919320" y="8751600"/>
            <a:ext cx="29955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E79241-AF91-4E5D-A913-995FF5A8B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4160" y="69048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0520" y="4378320"/>
            <a:ext cx="50720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hanging the “SL to VL Mapping Table values” and the “Forwarding Tables” too difficult, due to cyclic loop problem?  Due to overloa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4160" y="69048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0520" y="4378320"/>
            <a:ext cx="507204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tch Goal: Defining the communication mechanism between the QoS Manager and other managers (e.g. Congestion Control Manager, Device Manager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4801-5431-457E-84E8-43EED81532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96216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7D76-F4B5-44F3-A875-B09EC959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284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65B6-4F2B-455E-ACAB-A15D822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6720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5424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6720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5424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1102-93E2-42BA-BF69-4DA696E131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75840" y="119160"/>
            <a:ext cx="785340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6468-830E-4C45-8960-673D95FB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5284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96216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5284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6720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54240" y="129528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6720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54240" y="3962160"/>
            <a:ext cx="25585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D912-1FCA-4AF6-920D-EB9FD78A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5A85-DA4F-44AF-BCB7-8B69585E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DFA5-9526-4854-8B2A-EEDEE992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5840" y="119160"/>
            <a:ext cx="785340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C5A6-DCAC-4C0E-817F-C3E3D7DE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6F0E-A5DD-496A-992C-71E693E4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2840" y="396216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F2B6-DFF2-4FBF-A334-C3B5DF04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2840" y="1295280"/>
            <a:ext cx="3877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962160"/>
            <a:ext cx="7947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CD1A-CDBC-40EB-9AC3-546793D7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7486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FEFD-B689-4F0D-954A-D216CD07C10B}" type="slidenum">
              <a:rPr b="0" lang="en-US" sz="9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552720"/>
            <a:ext cx="13143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FAEF-3F9B-4A89-BDB6-4B7DF60A0018}" type="datetime">
              <a:rPr b="1" lang="en-US" sz="900" spc="-1" strike="noStrike">
                <a:solidFill>
                  <a:srgbClr val="333399"/>
                </a:solidFill>
                <a:latin typeface="Tahoma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6120" y="6657840"/>
            <a:ext cx="2992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pyright © 2004 –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SM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Trade Associ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54920" y="0"/>
            <a:ext cx="1184400" cy="1390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3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3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93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93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27320" y="6657840"/>
            <a:ext cx="2895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4 –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S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959600" y="0"/>
            <a:ext cx="1184400" cy="1390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03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3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03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BTA Developers’ Conferen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nk Working Group - QoS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tember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tan Zaha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WG-Q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Knobs Available to the QoS Manag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net Administration (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ng the SL the client should 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87480" indent="-219240">
              <a:lnSpc>
                <a:spcPct val="83000"/>
              </a:lnSpc>
              <a:spcBef>
                <a:spcPts val="601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eventually T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h choices among existing paths (LM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net Management (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LtoVLMappingT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ArbitrationT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-routing of the network (forwarding tabl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Control (†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T Time Interval (decay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CN Index Incre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CTI_min (lowest CCTI allow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gestion control t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ation Management (†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L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58080" indent="-219240">
              <a:lnSpc>
                <a:spcPct val="83000"/>
              </a:lnSpc>
              <a:spcBef>
                <a:spcPts val="675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Prior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3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5056200" y="5746680"/>
            <a:ext cx="24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Releas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†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eas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FD5B9-2F0E-483F-BBC9-04710C4B62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t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ng the communication mechanism between the fabric client and the QoS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ope includes Passive and Active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ope limited to Relative Priority On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93000"/>
              </a:lnSpc>
              <a:spcBef>
                <a:spcPts val="1049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andwidth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0">
              <a:lnSpc>
                <a:spcPct val="93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352E-BF2A-4D64-98FB-B6E39EAFA15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oS v. Congestion Contro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675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jective of congestion control is to avoid if possible, and eliminate if it has already occurred, congestion spread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675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is in “hardware” 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601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s a hardware solu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601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s no knowledge of relative priorities, response time goals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751"/>
              </a:spcBef>
              <a:spcAft>
                <a:spcPts val="1301"/>
              </a:spcAft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675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jective of QoS is to allow a host to control the performance attributes of the work it manages, within bounds specified by an administrat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675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ay be measured in seco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601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for a software solu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601"/>
              </a:spcBef>
              <a:spcAft>
                <a:spcPts val="1301"/>
              </a:spcAft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s knowledge of relative priorities, response time goals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0C10-719B-4301-AC3E-AE3630FA50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orkload Typ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Respons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 requirements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nt of j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via Relative 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Quality of sound or pi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 requirements typically 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itive to bandwidth, latency and j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by reserving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re focusing on Relative Priority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0">
              <a:lnSpc>
                <a:spcPct val="83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EE8F-4693-46F9-B58A-5BD7D25F89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oS in InfiniBand Toda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7600" y="2057400"/>
            <a:ext cx="5796000" cy="3126240"/>
            <a:chOff x="147600" y="2057400"/>
            <a:chExt cx="5796000" cy="3126240"/>
          </a:xfrm>
        </p:grpSpPr>
        <p:grpSp>
          <p:nvGrpSpPr>
            <p:cNvPr id="99" name=""/>
            <p:cNvGrpSpPr/>
            <p:nvPr/>
          </p:nvGrpSpPr>
          <p:grpSpPr>
            <a:xfrm>
              <a:off x="147600" y="2057400"/>
              <a:ext cx="5796000" cy="3126240"/>
              <a:chOff x="147600" y="2057400"/>
              <a:chExt cx="5796000" cy="3126240"/>
            </a:xfrm>
          </p:grpSpPr>
          <p:sp>
            <p:nvSpPr>
              <p:cNvPr id="100" name=""/>
              <p:cNvSpPr/>
              <p:nvPr/>
            </p:nvSpPr>
            <p:spPr>
              <a:xfrm>
                <a:off x="3200400" y="2057400"/>
                <a:ext cx="2743200" cy="2743200"/>
              </a:xfrm>
              <a:prstGeom prst="ellipse">
                <a:avLst/>
              </a:prstGeom>
              <a:solidFill>
                <a:srgbClr val="8b8b8b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57600" y="2362320"/>
                <a:ext cx="914400" cy="914400"/>
              </a:xfrm>
              <a:prstGeom prst="ellipse">
                <a:avLst/>
              </a:prstGeom>
              <a:solidFill>
                <a:srgbClr val="a7a7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VL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64040" y="3352680"/>
                <a:ext cx="1371600" cy="1371600"/>
              </a:xfrm>
              <a:prstGeom prst="ellipse">
                <a:avLst/>
              </a:prstGeom>
              <a:solidFill>
                <a:srgbClr val="00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VL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800600" y="2362320"/>
                <a:ext cx="685800" cy="685800"/>
              </a:xfrm>
              <a:prstGeom prst="ellipse">
                <a:avLst/>
              </a:prstGeom>
              <a:solidFill>
                <a:srgbClr val="b2b2b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VL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390840" y="3517920"/>
                <a:ext cx="609840" cy="6094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VL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47600" y="4479840"/>
                <a:ext cx="2685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Virtual Lanes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Tahoma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VLArbitrationTa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257800" y="3009960"/>
              <a:ext cx="609480" cy="60948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VL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1280" y="2341440"/>
            <a:ext cx="7664760" cy="3848760"/>
            <a:chOff x="161280" y="2341440"/>
            <a:chExt cx="7664760" cy="3848760"/>
          </a:xfrm>
        </p:grpSpPr>
        <p:sp>
          <p:nvSpPr>
            <p:cNvPr id="108" name=""/>
            <p:cNvSpPr/>
            <p:nvPr/>
          </p:nvSpPr>
          <p:spPr>
            <a:xfrm>
              <a:off x="5181480" y="2514600"/>
              <a:ext cx="19814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28000" y="2341440"/>
              <a:ext cx="637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28004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88120" y="4095720"/>
              <a:ext cx="63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981080" y="259092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0720" y="241308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3517920"/>
              <a:ext cx="63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L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980720" y="365760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1280" y="5486400"/>
              <a:ext cx="2937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ervice Level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LtoVLMapping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6575-4111-452A-96D3-5E0FFEDD006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oS in InfiniBand Toda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3434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6002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7120" y="5645160"/>
            <a:ext cx="25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h Se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- LID Mas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29120" y="2333520"/>
            <a:ext cx="762120" cy="685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428640" y="2333520"/>
            <a:ext cx="762120" cy="6858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95720" y="3505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971600" y="3800520"/>
            <a:ext cx="685800" cy="7621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48080" y="3828960"/>
            <a:ext cx="762120" cy="68580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93920" y="3505320"/>
            <a:ext cx="384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462040"/>
            <a:ext cx="762120" cy="685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561840" y="2452680"/>
            <a:ext cx="762120" cy="6858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93920" y="3505320"/>
            <a:ext cx="38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93920" y="3505320"/>
            <a:ext cx="38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429000"/>
            <a:ext cx="18288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30240" y="3398760"/>
            <a:ext cx="914400" cy="61920"/>
            <a:chOff x="1830240" y="3398760"/>
            <a:chExt cx="914400" cy="61920"/>
          </a:xfrm>
        </p:grpSpPr>
        <p:sp>
          <p:nvSpPr>
            <p:cNvPr id="133" name=""/>
            <p:cNvSpPr/>
            <p:nvPr/>
          </p:nvSpPr>
          <p:spPr>
            <a:xfrm flipH="1">
              <a:off x="1830240" y="3398760"/>
              <a:ext cx="9144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30240" y="3419280"/>
              <a:ext cx="9144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830240" y="3460680"/>
              <a:ext cx="914400" cy="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830240" y="3439800"/>
              <a:ext cx="9144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2971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514600"/>
            <a:ext cx="685800" cy="1828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apter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99360" y="3392640"/>
            <a:ext cx="914400" cy="61920"/>
            <a:chOff x="6399360" y="3392640"/>
            <a:chExt cx="914400" cy="61920"/>
          </a:xfrm>
        </p:grpSpPr>
        <p:sp>
          <p:nvSpPr>
            <p:cNvPr id="140" name=""/>
            <p:cNvSpPr/>
            <p:nvPr/>
          </p:nvSpPr>
          <p:spPr>
            <a:xfrm flipH="1">
              <a:off x="6399360" y="3392640"/>
              <a:ext cx="9144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399360" y="3413160"/>
              <a:ext cx="9144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6399360" y="3454560"/>
              <a:ext cx="914400" cy="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399360" y="3433680"/>
              <a:ext cx="914400" cy="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315200" y="2514600"/>
            <a:ext cx="685800" cy="1828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apte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971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7CBC-4C86-4E47-9507-C0EF6B0A63C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y a QoS Manager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ll workloads are of equal impor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ll servers’ high importance workloads are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fail a request, rather than impact existing workload on fabric (stream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merous knobs and dials must be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3000"/>
              </a:lnSpc>
              <a:spcBef>
                <a:spcPts val="119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settings need to be adju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C527-901A-4EFF-B40A-808D6CFE7D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unctions of QoS Manage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s that meet requester’s QoS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(S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lass (TCla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ent over commitment of VLs by streaming work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workloads still receiving requested QoS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fabr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knobs and dials to maintain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1760" indent="-22392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set some initial configuration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5280-578B-4ABE-A135-0879067CC5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oS Philosoph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esents QoS Manager with its required path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oS Manager selects potential path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edefined meaning to SLs and T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actional and streaming workloads do not share V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workgroup on how QoS Manager will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isting functions, performance counters, and M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only where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for various levels of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3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7DCF-9FC2-4163-99D1-2A868C65D4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5840" y="119160"/>
            <a:ext cx="785340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assive vs. Activ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947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ssive QoS Manag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bric configuration is relatively st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SLs are defined as “high priorit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s requests based on requested 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y limiting servers to a range of pri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3000"/>
              </a:lnSpc>
              <a:spcBef>
                <a:spcPts val="1049"/>
              </a:spcBef>
              <a:buClr>
                <a:srgbClr val="333399"/>
              </a:buClr>
              <a:buSzPct val="8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ctive QoS Manag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es fab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s requests based on requested 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880" indent="-228600">
              <a:lnSpc>
                <a:spcPct val="83000"/>
              </a:lnSpc>
              <a:spcBef>
                <a:spcPts val="751"/>
              </a:spcBef>
              <a:buClr>
                <a:srgbClr val="333399"/>
              </a:buClr>
              <a:buSzPct val="75000"/>
              <a:buFont typeface="Webdings" charset="2"/>
              <a:buChar char="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y limiting servers to a range of pri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s fab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3000"/>
              </a:lnSpc>
              <a:spcBef>
                <a:spcPts val="901"/>
              </a:spcBef>
              <a:buClr>
                <a:srgbClr val="3333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s with other managers to modify fabric and assure relative priorities are mainta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26E7-C47E-42D9-A2EE-B1B179D164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1/24/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7:59:44Z</dcterms:created>
  <dc:creator>William J. Rooney</dc:creator>
  <dc:description/>
  <cp:keywords/>
  <dc:language>en-US</dc:language>
  <cp:lastModifiedBy>pgrun</cp:lastModifiedBy>
  <dcterms:modified xsi:type="dcterms:W3CDTF">2006-09-21T20:42:56Z</dcterms:modified>
  <cp:revision>725</cp:revision>
  <dc:subject>Link Working Group - QoS</dc:subject>
  <dc:title>IBTA Developers' Conference</dc:title>
</cp:coreProperties>
</file>