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DF1-CD6C-4D46-AF58-FDC63168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744560" y="941400"/>
            <a:ext cx="3610080" cy="2708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lnSpc>
                <a:spcPct val="87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akea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stent set of compliance tools removes guesswork from the product design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results map clearly back to specific requirements in the Test Specification (STS), and TS requirements are objectively derived from the architecture spec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result is a “chain of predictability” leading to less expensive product designs that are brought to market soo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5EF5-0609-423C-BDC0-8C659C43B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7F82-6D69-49C9-9982-B550384E9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59F8-5F05-4010-8021-8670B1B00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E3EA-DC36-46D4-92F4-C9F33645C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A032-2D72-44A7-B9AB-328A4DF52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DA1A-184C-4694-84A3-B14CDC2997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D67E-B4A1-41A8-B1BA-B00FDB50BC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3DDD-BBB9-401C-A00C-5630D6D64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AEC3-F251-4DCE-9965-734C57946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11C4-D1C6-4D1E-A1EA-0595E7875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A9A4-56E4-4BD6-A8F8-64100C909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69B3-A598-46F6-A8AD-2073CB718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E9BB-3570-4DE6-A14D-BE99BD7FA28F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52280"/>
            <a:ext cx="9144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8663-C38B-4F7A-BC1B-ADEC0064E0BA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91520" y="228600"/>
            <a:ext cx="1662120" cy="61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971800" y="1905120"/>
            <a:ext cx="3200400" cy="291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647712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openfabrics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infinibandta.org/itinfo/I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6200" y="810720"/>
            <a:ext cx="7458120" cy="18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finiBand Trade Associatio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evelopers Confer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IWG Update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3160" y="3048120"/>
            <a:ext cx="4343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uan Phamdo – CI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pert Dance – CI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5084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– CIWG Activities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0440" y="990360"/>
            <a:ext cx="7829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ce and Interoperability are essential elements for the success of InfiniBand Architecture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IWG is chartered to manage the InfiniBand Trade Association’s Compliance and Interoperability Prog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ugfest Objectiv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industry to design for C&amp;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 confidence that InfiniBand Products are compliant and interoperable within the InfiniBand Architecture framework thru IBTA sponsored plugfe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the advance of InfiniBand Architecture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ugfest Roadma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ice a year (next one in October 2006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or List updated at each PlugF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Interoperability Testing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jal Das, Mella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an Phamdo, In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pert Dance – Lamprey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Ch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18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and Execute interoperability testing policies, processes and procedures for the OpenFabrics software st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d on Interoperability and not 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66688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Delive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3429000"/>
            <a:ext cx="8518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operability Test Spec – version 1.0 now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vendor to host Interoperability events - UNH I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Logo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ll Interop demo at SC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1219320"/>
            <a:ext cx="8518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April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BTA but focused on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 – responsible for writing Interop Test Spec, maintaining the Logo program and promoting the use of the OFA St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OL – responsible for test implementation and running the Interoperability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3429000"/>
            <a:ext cx="8523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IWG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4440" y="4024440"/>
            <a:ext cx="8518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Member Companies and 30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sio, Cisco, Flextronics, Intel, Lamprey Networks, Lawrence Livermore Labs, LSI Logic, Mellanox, Network Appliance, NetEffect, QLogic, SilverStorm, System Fabric Works, UNH IOL and Vol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316080"/>
            <a:ext cx="7162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A Membership Benefit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Membership: $10K/y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ew Hampshire-Interop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d maintain an Interop Test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Interop Tes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sponsor Plugf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On-Demand testing for members who wish to test outside of Plugf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membership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cheduled events and on-demand testing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gibility for Logo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members can participate in the scheduled events for $5K/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eligible for on-demand testing and logo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G works with the OFA Marketing Group to promote the LOGO program that is based on Interop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38080" cy="766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143000" y="1143000"/>
            <a:ext cx="5638680" cy="251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3809880"/>
            <a:ext cx="5638680" cy="1600200"/>
          </a:xfrm>
          <a:prstGeom prst="rect">
            <a:avLst/>
          </a:prstGeom>
          <a:gradFill rotWithShape="0">
            <a:gsLst>
              <a:gs pos="0">
                <a:srgbClr val="ffcc99">
                  <a:alpha val="20000"/>
                </a:srgbClr>
              </a:gs>
              <a:gs pos="100000">
                <a:srgbClr val="755e46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666880"/>
            <a:ext cx="12952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2096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22860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88620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4800600"/>
            <a:ext cx="15238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19320" y="434340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441972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3886200"/>
            <a:ext cx="1676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Swit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121932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52388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14479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743200"/>
            <a:ext cx="1218960" cy="533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1219320"/>
            <a:ext cx="1523880" cy="533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to F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81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209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0481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19720" y="281952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274320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4800600"/>
            <a:ext cx="12189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449568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2057400"/>
            <a:ext cx="1600200" cy="533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3962520"/>
            <a:ext cx="1600200" cy="533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to Fib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0120" y="2590920"/>
            <a:ext cx="1371600" cy="1066680"/>
          </a:xfrm>
          <a:prstGeom prst="ellipse">
            <a:avLst/>
          </a:prstGeom>
          <a:gradFill rotWithShape="0">
            <a:gsLst>
              <a:gs pos="0">
                <a:srgbClr val="cc99ff">
                  <a:alpha val="40000"/>
                </a:srgbClr>
              </a:gs>
              <a:gs pos="100000">
                <a:srgbClr val="5e4675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4191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059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1447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05920" y="1447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2590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17524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18288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across InfiniBand and iWARP 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with other fabric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50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1219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9680" y="3048120"/>
            <a:ext cx="10670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4800600"/>
            <a:ext cx="9907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FS-RDM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28195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2743200"/>
            <a:ext cx="30456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4495680"/>
            <a:ext cx="30456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57400" y="304920"/>
            <a:ext cx="5191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Fabrics Software Sta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286760" y="121932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169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169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16960" y="5925960"/>
            <a:ext cx="61884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286760" y="5433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7086600" cy="28195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5791320"/>
            <a:ext cx="14479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WARP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670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38680" y="5257800"/>
            <a:ext cx="14479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5320" y="5791320"/>
            <a:ext cx="3808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5257800"/>
            <a:ext cx="3808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5791320"/>
            <a:ext cx="38124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525780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6200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1760" y="4724280"/>
            <a:ext cx="505764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71760" y="419112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2357280"/>
            <a:ext cx="5715000" cy="21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24080" y="3271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32716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32716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14520" y="203364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571500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5143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3753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29955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25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30751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2300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2971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3271680"/>
            <a:ext cx="68580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FS-RD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R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3271680"/>
            <a:ext cx="60948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 S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21337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38480" y="17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1766880"/>
            <a:ext cx="0" cy="13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13255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176688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1766880"/>
            <a:ext cx="0" cy="15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8320" y="176688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4800" y="3119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28335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176688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38480" y="2271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3119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1309680"/>
            <a:ext cx="6858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luste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B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30968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43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130968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121932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19954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64600" y="543384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0718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191448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79096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209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75492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631764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2040" y="4124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09720" y="258120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8080" cy="766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838080" cy="766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43000" y="1143000"/>
            <a:ext cx="5638680" cy="2514600"/>
          </a:xfrm>
          <a:prstGeom prst="rect">
            <a:avLst/>
          </a:prstGeom>
          <a:gradFill rotWithShape="0">
            <a:gsLst>
              <a:gs pos="0">
                <a:srgbClr val="bbe0e3">
                  <a:alpha val="20000"/>
                </a:srgbClr>
              </a:gs>
              <a:gs pos="100000">
                <a:srgbClr val="566768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3809880"/>
            <a:ext cx="5638680" cy="1600200"/>
          </a:xfrm>
          <a:prstGeom prst="rect">
            <a:avLst/>
          </a:prstGeom>
          <a:gradFill rotWithShape="0">
            <a:gsLst>
              <a:gs pos="0">
                <a:srgbClr val="ffcc99">
                  <a:alpha val="20000"/>
                </a:srgbClr>
              </a:gs>
              <a:gs pos="100000">
                <a:srgbClr val="755e46">
                  <a:alpha val="20000"/>
                </a:srgbClr>
              </a:gs>
            </a:gsLst>
            <a:lin ang="5400000"/>
          </a:gra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Plan v1.0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26668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95480" y="21337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22096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22860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9320" y="39625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48769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40384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419720"/>
            <a:ext cx="152388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81080" y="44956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-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3886200"/>
            <a:ext cx="167652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Switc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21932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P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152388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447920"/>
            <a:ext cx="30492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581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52680" y="3048120"/>
            <a:ext cx="12193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19720" y="2819520"/>
            <a:ext cx="304560" cy="30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2743200"/>
            <a:ext cx="304920" cy="3049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581280" y="26665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4800600"/>
            <a:ext cx="121896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ER Stor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457200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52880" y="4495680"/>
            <a:ext cx="30492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8620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1752480"/>
            <a:ext cx="12952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05120" y="1828800"/>
            <a:ext cx="5331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718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2362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2362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4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432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4320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71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562720"/>
            <a:ext cx="9144000" cy="761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erability with some fabric components within 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fabric interoperability tests in later 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5029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19320" y="121932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niBand Fab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010280" y="19051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v1.x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41911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v2.x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523880" y="304920"/>
            <a:ext cx="5191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lan v1.0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7286760" y="1219320"/>
          <a:ext cx="1724040" cy="4114800"/>
        </p:xfrm>
        <a:graphic>
          <a:graphicData uri="http://schemas.openxmlformats.org/drawingml/2006/table">
            <a:tbl>
              <a:tblPr/>
              <a:tblGrid>
                <a:gridCol w="542880"/>
                <a:gridCol w="1181160"/>
              </a:tblGrid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Administ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Datagr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net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Manager Ag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over InfiniBa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CSI RDMA Protocol (Initiat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le Datagram Servi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DAP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Direct Access Programming Li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 Channel Adap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-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MA N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7286760" y="5372280"/>
            <a:ext cx="1724040" cy="799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16960" y="5433840"/>
            <a:ext cx="6001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16960" y="5680080"/>
            <a:ext cx="600120" cy="18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16960" y="5925960"/>
            <a:ext cx="618840" cy="184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286760" y="54338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K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1233360"/>
            <a:ext cx="7086600" cy="162900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2895480"/>
            <a:ext cx="7086600" cy="28195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5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5791320"/>
            <a:ext cx="12193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etEffect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4300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257800"/>
            <a:ext cx="12193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4295880"/>
            <a:ext cx="685800" cy="352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62000" y="4191120"/>
            <a:ext cx="3906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71760" y="4724280"/>
            <a:ext cx="5057640" cy="304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OpenFabrics Kernel Level Verbs / API            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71760" y="4191120"/>
            <a:ext cx="361800" cy="457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19720" y="4286160"/>
            <a:ext cx="761760" cy="362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38560" y="3838680"/>
            <a:ext cx="1676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nection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straction (C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357280"/>
            <a:ext cx="5715000" cy="219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abrics User Level    Verbs / AP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iW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3271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90920" y="3271680"/>
            <a:ext cx="457200" cy="38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62520" y="32716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19720" y="3271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29040" y="2643120"/>
            <a:ext cx="552240" cy="1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Li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14520" y="2033640"/>
            <a:ext cx="847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14480" y="1652760"/>
            <a:ext cx="4381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14520" y="1652760"/>
            <a:ext cx="3427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571500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51436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3753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29955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5791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5257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4114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30751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" y="23004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52480" y="29718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1080" y="25909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4080" y="21337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17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1766880"/>
            <a:ext cx="93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132552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76688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3119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19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283356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176688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38480" y="2271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90760" y="4191120"/>
            <a:ext cx="380880" cy="447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2004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0968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95680" y="130968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514600" y="130968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280" y="1219320"/>
            <a:ext cx="7086600" cy="4952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2280" y="19954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64600" y="5433840"/>
            <a:ext cx="600120" cy="6699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pps &amp;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thod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 using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 St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207180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1914480"/>
            <a:ext cx="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1240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160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343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6200000">
            <a:off x="75492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6317640" y="4410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by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62040" y="4124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09720" y="2581200"/>
            <a:ext cx="0" cy="153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90920" y="5791320"/>
            <a:ext cx="13716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Logic 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5257800"/>
            <a:ext cx="137160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791320"/>
            <a:ext cx="1219320" cy="3045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mmasso R-N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5257800"/>
            <a:ext cx="12193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 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iniBand Specific Test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 (in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 Subnet Managers (in swit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 or InfiniBand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y, port states, error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 fail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– I/F, subnet, multicast, ping, 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/SRP – connection, recovery, D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52336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resentation Goal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186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IWG Charter and Organiza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mpliance and Interoperabilit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BTA October 2006 Plugfe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DR and DDR Tes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5065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L Li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WARP Specific Test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 or iWARP 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and multiple iWARP connections and RDMA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/re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spee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Independent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C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ER – connection, recovery, D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– netperf, FTP, SCP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 – connection, verification, end-points, RDMA R/W, threads, pipeline, point-to-point and switched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– benchmark tests, different SMs (IB), RDMA R/W, all-to-all connections, dynamic connections,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nterop E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week and location as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: October 11-1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: UNH-IOL – Durham, N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 Test Plan v 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Intel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B HCAs and 2 iWARP R-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IB Switches and one 10 GbE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L 4.0 Updat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-UNH IOL Tested Logo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781280" y="1371600"/>
            <a:ext cx="50767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-UNH IOL Tested 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end-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uge vendor equipment interoperability using trusted source (UNH-I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bring-up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with log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ter end-user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aying members only ($10K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, IWG, or UNH-IOL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, proven to work or  inter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Program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&amp; UNH-IOL Tested”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ted to vendors that meet following three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 and complete testing in IWG and UNH-IOL hosted test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events or on-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UNH-IOL issued test repor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sure integrity of OFA &amp; UNH-IOL “Tested”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logo license agreement (administered by OFA-I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s can opt to keep results confidential by not applying fo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 signifies “tested”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emental test report validates actual extent of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o Usage (Scenar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 PR and marketing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s granting of Logo by IWG and UNH-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logo in product and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s with IWG-IOL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versions, what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, fail, worka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visibility in UNH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participation in multi-vendor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end users, SCINET organizer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A IWG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1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ember Companies and 30 particip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Livermore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I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p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ver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bric 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A Backup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WG Backu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9760" y="90360"/>
            <a:ext cx="85233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Charter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0760" y="685440"/>
            <a:ext cx="8518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fine, implement and oversee an effective IBTA Compliance and Interoperability Program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14300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Delive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752480"/>
            <a:ext cx="8518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finiBand Compliance Test Specification and Test Su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cess for InfiniBand Compliance and Interoperability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lugf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895480"/>
            <a:ext cx="852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3505320"/>
            <a:ext cx="8518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agement group – responsible for Volume 1 Spec review and writing Test Descriptions (T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ysical Group – responsible for Volume 2 Spec review and updating TDs and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lugfest group – responsible for organizing PlugFest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amprey Networks – responsible for test implementation and running the Plugf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967280"/>
            <a:ext cx="85233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IWG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760" y="5562720"/>
            <a:ext cx="851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2 Member Companies, 110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7680" y="275760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42720" y="3365280"/>
            <a:ext cx="7521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stem 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Better user experience -- system “just works”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liant peripherals reduce support call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ipherals vend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ompliant components reduce support calls and product return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nger peripheral 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ilding blocks (silicon, software, etc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nger system and peripheral sales lead to stronger “building block” sal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7621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ducts do not operate in vac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Your InfiniBand Product will operate with others in customer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ect compliance to the InfiniBand Specification leads to successful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sting with other products is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ividual product functional testing is not adeq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47680" y="90360"/>
            <a:ext cx="8523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IWG Membership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68580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2 Member Companies, 110 participants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isco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lextronic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oxcon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ujitsu Components America, Inc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olden Bridge Electech, Inc.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ewlett-Packard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tachi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t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amprey Network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ONI Special Cable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SI Logi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ellano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Molex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ndui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QLogi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lverStorm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yco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Voltai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W.L. Gor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Key Milestones and Deliverabl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WG Formed -- August 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st Plugfest -  June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Specification - June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rst Integrator List Launch - June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gfest – March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ril 2006 – Updated IL Lis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infinibandta.org/itinfo/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lugfest – October 2006 – IBTA/OFA Joint Ses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and Interoperabilit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18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iniBand Architecture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the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compliance require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uccess of InfiniBand Architecture depends on rolling out products th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et the architecture requirements (Complianc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 seamlessly together (Interoperabilit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18760" y="-360"/>
            <a:ext cx="749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mpliance &amp; Interoperability Tool Mapping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9840" y="3505320"/>
            <a:ext cx="2335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pec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3920" y="3505320"/>
            <a:ext cx="1911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A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Descri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47200" y="3505320"/>
            <a:ext cx="1996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Interpr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Def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7520" y="4086360"/>
            <a:ext cx="1965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H/W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/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66"/>
                </a:solidFill>
                <a:latin typeface="Arial"/>
              </a:rPr>
              <a:t>Val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56600" y="1830240"/>
            <a:ext cx="422280" cy="438120"/>
          </a:xfrm>
          <a:custGeom>
            <a:avLst/>
            <a:gdLst>
              <a:gd name="textAreaLeft" fmla="*/ 15120 w 422280"/>
              <a:gd name="textAreaRight" fmla="*/ 407160 w 422280"/>
              <a:gd name="textAreaTop" fmla="*/ 15120 h 438120"/>
              <a:gd name="textAreaBottom" fmla="*/ 423000 h 438120"/>
            </a:gdLst>
            <a:ahLst/>
            <a:rect l="textAreaLeft" t="textAreaTop" r="textAreaRight" b="textAreaBottom"/>
            <a:pathLst>
              <a:path w="21600" h="22410">
                <a:moveTo>
                  <a:pt x="2697" y="0"/>
                </a:moveTo>
                <a:arcTo wR="2697" hR="2697" stAng="16200000" swAng="-5400000"/>
                <a:lnTo>
                  <a:pt x="0" y="19713"/>
                </a:lnTo>
                <a:arcTo wR="2697" hR="2697" stAng="10800000" swAng="-5400000"/>
                <a:lnTo>
                  <a:pt x="18903" y="22410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85040" y="1525680"/>
            <a:ext cx="455760" cy="722160"/>
          </a:xfrm>
          <a:custGeom>
            <a:avLst/>
            <a:gdLst/>
            <a:ahLst/>
            <a:rect l="l" t="t" r="r" b="b"/>
            <a:pathLst>
              <a:path w="287" h="455">
                <a:moveTo>
                  <a:pt x="32" y="211"/>
                </a:moveTo>
                <a:lnTo>
                  <a:pt x="0" y="335"/>
                </a:lnTo>
                <a:lnTo>
                  <a:pt x="110" y="454"/>
                </a:lnTo>
                <a:lnTo>
                  <a:pt x="286" y="53"/>
                </a:lnTo>
                <a:lnTo>
                  <a:pt x="286" y="0"/>
                </a:lnTo>
                <a:lnTo>
                  <a:pt x="90" y="338"/>
                </a:lnTo>
                <a:lnTo>
                  <a:pt x="32" y="211"/>
                </a:lnTo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6600" y="2637000"/>
            <a:ext cx="422280" cy="438120"/>
          </a:xfrm>
          <a:custGeom>
            <a:avLst/>
            <a:gdLst>
              <a:gd name="textAreaLeft" fmla="*/ 15120 w 422280"/>
              <a:gd name="textAreaRight" fmla="*/ 407160 w 422280"/>
              <a:gd name="textAreaTop" fmla="*/ 15120 h 438120"/>
              <a:gd name="textAreaBottom" fmla="*/ 423000 h 438120"/>
            </a:gdLst>
            <a:ahLst/>
            <a:rect l="textAreaLeft" t="textAreaTop" r="textAreaRight" b="textAreaBottom"/>
            <a:pathLst>
              <a:path w="21600" h="22410">
                <a:moveTo>
                  <a:pt x="2693" y="0"/>
                </a:moveTo>
                <a:arcTo wR="2693" hR="2693" stAng="16200000" swAng="-5400000"/>
                <a:lnTo>
                  <a:pt x="0" y="19717"/>
                </a:lnTo>
                <a:arcTo wR="2693" hR="2693" stAng="10800000" swAng="-5400000"/>
                <a:lnTo>
                  <a:pt x="18907" y="22410"/>
                </a:lnTo>
                <a:arcTo wR="2693" hR="2693" stAng="5400000" swAng="-5400000"/>
                <a:lnTo>
                  <a:pt x="21600" y="2693"/>
                </a:lnTo>
                <a:arcTo wR="2693" hR="2693" stAng="0" swAng="-5400000"/>
                <a:close/>
              </a:path>
            </a:pathLst>
          </a:cu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835400" y="1952640"/>
            <a:ext cx="114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0880" y="2619360"/>
            <a:ext cx="97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876920" y="1600200"/>
            <a:ext cx="1447560" cy="1347840"/>
            <a:chOff x="4876920" y="1600200"/>
            <a:chExt cx="1447560" cy="1347840"/>
          </a:xfrm>
        </p:grpSpPr>
        <p:grpSp>
          <p:nvGrpSpPr>
            <p:cNvPr id="202" name=""/>
            <p:cNvGrpSpPr/>
            <p:nvPr/>
          </p:nvGrpSpPr>
          <p:grpSpPr>
            <a:xfrm>
              <a:off x="4876920" y="1871640"/>
              <a:ext cx="1022400" cy="1076400"/>
              <a:chOff x="4876920" y="1871640"/>
              <a:chExt cx="1022400" cy="1076400"/>
            </a:xfrm>
          </p:grpSpPr>
          <p:sp>
            <p:nvSpPr>
              <p:cNvPr id="203" name=""/>
              <p:cNvSpPr/>
              <p:nvPr/>
            </p:nvSpPr>
            <p:spPr>
              <a:xfrm>
                <a:off x="4897440" y="1886040"/>
                <a:ext cx="1001880" cy="1062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76920" y="1871640"/>
                <a:ext cx="1000080" cy="106056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9360" y="2246400"/>
                <a:ext cx="291960" cy="309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49880" y="2268720"/>
                <a:ext cx="250920" cy="264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89560" y="2559240"/>
                <a:ext cx="120600" cy="368280"/>
              </a:xfrm>
              <a:custGeom>
                <a:avLst/>
                <a:gdLst/>
                <a:ahLst/>
                <a:rect l="l" t="t" r="r" b="b"/>
                <a:pathLst>
                  <a:path w="76" h="232">
                    <a:moveTo>
                      <a:pt x="0" y="4"/>
                    </a:moveTo>
                    <a:lnTo>
                      <a:pt x="33" y="231"/>
                    </a:lnTo>
                    <a:lnTo>
                      <a:pt x="59" y="225"/>
                    </a:lnTo>
                    <a:lnTo>
                      <a:pt x="75" y="220"/>
                    </a:lnTo>
                    <a:lnTo>
                      <a:pt x="1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18000" y="2535480"/>
                <a:ext cx="181080" cy="374400"/>
              </a:xfrm>
              <a:custGeom>
                <a:avLst/>
                <a:gdLst/>
                <a:ahLst/>
                <a:rect l="l" t="t" r="r" b="b"/>
                <a:pathLst>
                  <a:path w="114" h="236">
                    <a:moveTo>
                      <a:pt x="0" y="15"/>
                    </a:moveTo>
                    <a:lnTo>
                      <a:pt x="17" y="8"/>
                    </a:lnTo>
                    <a:lnTo>
                      <a:pt x="26" y="0"/>
                    </a:lnTo>
                    <a:lnTo>
                      <a:pt x="113" y="213"/>
                    </a:lnTo>
                    <a:lnTo>
                      <a:pt x="83" y="226"/>
                    </a:lnTo>
                    <a:lnTo>
                      <a:pt x="58" y="23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457960" y="2521080"/>
                <a:ext cx="203040" cy="353880"/>
              </a:xfrm>
              <a:custGeom>
                <a:avLst/>
                <a:gdLst/>
                <a:ahLst/>
                <a:rect l="l" t="t" r="r" b="b"/>
                <a:pathLst>
                  <a:path w="128" h="223">
                    <a:moveTo>
                      <a:pt x="16" y="0"/>
                    </a:moveTo>
                    <a:lnTo>
                      <a:pt x="127" y="198"/>
                    </a:lnTo>
                    <a:lnTo>
                      <a:pt x="117" y="204"/>
                    </a:lnTo>
                    <a:lnTo>
                      <a:pt x="88" y="222"/>
                    </a:lnTo>
                    <a:lnTo>
                      <a:pt x="0" y="1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40160" y="1878120"/>
                <a:ext cx="120960" cy="366840"/>
              </a:xfrm>
              <a:custGeom>
                <a:avLst/>
                <a:gdLst/>
                <a:ahLst/>
                <a:rect l="l" t="t" r="r" b="b"/>
                <a:pathLst>
                  <a:path w="76" h="231">
                    <a:moveTo>
                      <a:pt x="75" y="226"/>
                    </a:moveTo>
                    <a:lnTo>
                      <a:pt x="41" y="0"/>
                    </a:lnTo>
                    <a:lnTo>
                      <a:pt x="16" y="5"/>
                    </a:lnTo>
                    <a:lnTo>
                      <a:pt x="0" y="10"/>
                    </a:lnTo>
                    <a:lnTo>
                      <a:pt x="57" y="230"/>
                    </a:lnTo>
                    <a:lnTo>
                      <a:pt x="75" y="226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53040" y="1892520"/>
                <a:ext cx="179280" cy="376200"/>
              </a:xfrm>
              <a:custGeom>
                <a:avLst/>
                <a:gdLst/>
                <a:ahLst/>
                <a:rect l="l" t="t" r="r" b="b"/>
                <a:pathLst>
                  <a:path w="113" h="237">
                    <a:moveTo>
                      <a:pt x="112" y="221"/>
                    </a:moveTo>
                    <a:lnTo>
                      <a:pt x="94" y="229"/>
                    </a:lnTo>
                    <a:lnTo>
                      <a:pt x="85" y="236"/>
                    </a:lnTo>
                    <a:lnTo>
                      <a:pt x="0" y="22"/>
                    </a:lnTo>
                    <a:lnTo>
                      <a:pt x="28" y="11"/>
                    </a:lnTo>
                    <a:lnTo>
                      <a:pt x="55" y="0"/>
                    </a:lnTo>
                    <a:lnTo>
                      <a:pt x="112" y="221"/>
                    </a:lnTo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91120" y="1927440"/>
                <a:ext cx="200160" cy="353880"/>
              </a:xfrm>
              <a:custGeom>
                <a:avLst/>
                <a:gdLst/>
                <a:ahLst/>
                <a:rect l="l" t="t" r="r" b="b"/>
                <a:pathLst>
                  <a:path w="126" h="223">
                    <a:moveTo>
                      <a:pt x="110" y="222"/>
                    </a:moveTo>
                    <a:lnTo>
                      <a:pt x="0" y="28"/>
                    </a:lnTo>
                    <a:lnTo>
                      <a:pt x="9" y="19"/>
                    </a:lnTo>
                    <a:lnTo>
                      <a:pt x="39" y="0"/>
                    </a:lnTo>
                    <a:lnTo>
                      <a:pt x="125" y="213"/>
                    </a:lnTo>
                    <a:lnTo>
                      <a:pt x="110" y="222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78320" y="2297160"/>
                <a:ext cx="190440" cy="20628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248440" y="1600200"/>
              <a:ext cx="1076040" cy="1024200"/>
              <a:chOff x="5248440" y="1600200"/>
              <a:chExt cx="1076040" cy="102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2480" y="1600200"/>
                <a:ext cx="1062000" cy="1001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48440" y="1623960"/>
                <a:ext cx="1060200" cy="10004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24640" y="1978200"/>
                <a:ext cx="309600" cy="291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46600" y="1998720"/>
                <a:ext cx="2653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35680" y="1990800"/>
                <a:ext cx="368280" cy="120600"/>
              </a:xfrm>
              <a:custGeom>
                <a:avLst/>
                <a:gdLst/>
                <a:ahLst/>
                <a:rect l="l" t="t" r="r" b="b"/>
                <a:pathLst>
                  <a:path w="232" h="76">
                    <a:moveTo>
                      <a:pt x="4" y="75"/>
                    </a:moveTo>
                    <a:lnTo>
                      <a:pt x="231" y="42"/>
                    </a:lnTo>
                    <a:lnTo>
                      <a:pt x="225" y="16"/>
                    </a:lnTo>
                    <a:lnTo>
                      <a:pt x="220" y="0"/>
                    </a:lnTo>
                    <a:lnTo>
                      <a:pt x="0" y="57"/>
                    </a:lnTo>
                    <a:lnTo>
                      <a:pt x="4" y="75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11920" y="1901880"/>
                <a:ext cx="374760" cy="181080"/>
              </a:xfrm>
              <a:custGeom>
                <a:avLst/>
                <a:gdLst/>
                <a:ahLst/>
                <a:rect l="l" t="t" r="r" b="b"/>
                <a:pathLst>
                  <a:path w="236" h="114">
                    <a:moveTo>
                      <a:pt x="15" y="113"/>
                    </a:moveTo>
                    <a:lnTo>
                      <a:pt x="8" y="96"/>
                    </a:lnTo>
                    <a:lnTo>
                      <a:pt x="0" y="87"/>
                    </a:lnTo>
                    <a:lnTo>
                      <a:pt x="213" y="0"/>
                    </a:lnTo>
                    <a:lnTo>
                      <a:pt x="226" y="30"/>
                    </a:lnTo>
                    <a:lnTo>
                      <a:pt x="235" y="55"/>
                    </a:lnTo>
                    <a:lnTo>
                      <a:pt x="15" y="113"/>
                    </a:lnTo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97520" y="1839960"/>
                <a:ext cx="353880" cy="203400"/>
              </a:xfrm>
              <a:custGeom>
                <a:avLst/>
                <a:gdLst/>
                <a:ahLst/>
                <a:rect l="l" t="t" r="r" b="b"/>
                <a:pathLst>
                  <a:path w="223" h="128">
                    <a:moveTo>
                      <a:pt x="0" y="111"/>
                    </a:moveTo>
                    <a:lnTo>
                      <a:pt x="198" y="0"/>
                    </a:lnTo>
                    <a:lnTo>
                      <a:pt x="204" y="10"/>
                    </a:lnTo>
                    <a:lnTo>
                      <a:pt x="222" y="39"/>
                    </a:lnTo>
                    <a:lnTo>
                      <a:pt x="10" y="127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54560" y="2140200"/>
                <a:ext cx="366840" cy="120600"/>
              </a:xfrm>
              <a:custGeom>
                <a:avLst/>
                <a:gdLst/>
                <a:ahLst/>
                <a:rect l="l" t="t" r="r" b="b"/>
                <a:pathLst>
                  <a:path w="231" h="76">
                    <a:moveTo>
                      <a:pt x="226" y="0"/>
                    </a:moveTo>
                    <a:lnTo>
                      <a:pt x="0" y="34"/>
                    </a:lnTo>
                    <a:lnTo>
                      <a:pt x="5" y="59"/>
                    </a:lnTo>
                    <a:lnTo>
                      <a:pt x="10" y="75"/>
                    </a:lnTo>
                    <a:lnTo>
                      <a:pt x="230" y="18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68960" y="2170080"/>
                <a:ext cx="376200" cy="179640"/>
              </a:xfrm>
              <a:custGeom>
                <a:avLst/>
                <a:gdLst/>
                <a:ahLst/>
                <a:rect l="l" t="t" r="r" b="b"/>
                <a:pathLst>
                  <a:path w="237" h="113">
                    <a:moveTo>
                      <a:pt x="221" y="0"/>
                    </a:moveTo>
                    <a:lnTo>
                      <a:pt x="229" y="18"/>
                    </a:lnTo>
                    <a:lnTo>
                      <a:pt x="236" y="27"/>
                    </a:lnTo>
                    <a:lnTo>
                      <a:pt x="22" y="112"/>
                    </a:lnTo>
                    <a:lnTo>
                      <a:pt x="11" y="84"/>
                    </a:lnTo>
                    <a:lnTo>
                      <a:pt x="0" y="57"/>
                    </a:lnTo>
                    <a:lnTo>
                      <a:pt x="221" y="0"/>
                    </a:lnTo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3880" y="2210040"/>
                <a:ext cx="353880" cy="199800"/>
              </a:xfrm>
              <a:custGeom>
                <a:avLst/>
                <a:gdLst/>
                <a:ahLst/>
                <a:rect l="l" t="t" r="r" b="b"/>
                <a:pathLst>
                  <a:path w="223" h="126">
                    <a:moveTo>
                      <a:pt x="222" y="15"/>
                    </a:moveTo>
                    <a:lnTo>
                      <a:pt x="28" y="125"/>
                    </a:lnTo>
                    <a:lnTo>
                      <a:pt x="19" y="116"/>
                    </a:lnTo>
                    <a:lnTo>
                      <a:pt x="0" y="86"/>
                    </a:lnTo>
                    <a:lnTo>
                      <a:pt x="213" y="0"/>
                    </a:lnTo>
                    <a:lnTo>
                      <a:pt x="222" y="15"/>
                    </a:lnTo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73600" y="2032200"/>
                <a:ext cx="206640" cy="19044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4944960" y="3505320"/>
            <a:ext cx="980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600200"/>
            <a:ext cx="1228680" cy="1788840"/>
            <a:chOff x="228600" y="1600200"/>
            <a:chExt cx="1228680" cy="1788840"/>
          </a:xfrm>
        </p:grpSpPr>
        <p:sp>
          <p:nvSpPr>
            <p:cNvPr id="228" name=""/>
            <p:cNvSpPr/>
            <p:nvPr/>
          </p:nvSpPr>
          <p:spPr>
            <a:xfrm>
              <a:off x="228600" y="1814400"/>
              <a:ext cx="1228680" cy="1574640"/>
            </a:xfrm>
            <a:prstGeom prst="rect">
              <a:avLst/>
            </a:prstGeom>
            <a:solidFill>
              <a:srgbClr val="339933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B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04880" y="1155600"/>
              <a:ext cx="187200" cy="1076400"/>
            </a:xfrm>
            <a:prstGeom prst="rtTriangl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521080" y="1600200"/>
            <a:ext cx="1222200" cy="1788840"/>
            <a:chOff x="2521080" y="1600200"/>
            <a:chExt cx="1222200" cy="1788840"/>
          </a:xfrm>
        </p:grpSpPr>
        <p:sp>
          <p:nvSpPr>
            <p:cNvPr id="231" name=""/>
            <p:cNvSpPr/>
            <p:nvPr/>
          </p:nvSpPr>
          <p:spPr>
            <a:xfrm>
              <a:off x="2521080" y="1814400"/>
              <a:ext cx="1222200" cy="1574640"/>
            </a:xfrm>
            <a:prstGeom prst="rect">
              <a:avLst/>
            </a:prstGeom>
            <a:solidFill>
              <a:srgbClr val="339933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2994120" y="1158840"/>
              <a:ext cx="187200" cy="1069920"/>
            </a:xfrm>
            <a:prstGeom prst="rtTriangle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962520" y="2152800"/>
            <a:ext cx="685800" cy="819000"/>
          </a:xfrm>
          <a:prstGeom prst="rightArrow">
            <a:avLst>
              <a:gd name="adj1" fmla="val 50000"/>
              <a:gd name="adj2" fmla="val 4521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152800"/>
            <a:ext cx="685800" cy="819000"/>
          </a:xfrm>
          <a:prstGeom prst="rightArrow">
            <a:avLst>
              <a:gd name="adj1" fmla="val 50000"/>
              <a:gd name="adj2" fmla="val 4751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2152800"/>
            <a:ext cx="685800" cy="81900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41400" y="5931000"/>
            <a:ext cx="5545080" cy="544320"/>
          </a:xfrm>
          <a:prstGeom prst="rect">
            <a:avLst/>
          </a:prstGeom>
          <a:solidFill>
            <a:srgbClr val="339966"/>
          </a:solidFill>
          <a:ln w="25560">
            <a:solidFill>
              <a:srgbClr val="800080"/>
            </a:solidFill>
            <a:miter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5951520"/>
            <a:ext cx="411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dictable Path to C&amp;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EA84-FFF2-4111-8F13-69745E2C5FAD}" type="slidenum">
              <a:t>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BTA Plugfes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18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BTA Plugfest will be held October 9-10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liance testing based on IBTA Spe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tests suites are being updated to Volume 2 v 1.2.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k and management tests are being updated to Volume 1 v 1.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operability testing based on updated OFA Interop Test P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DR and DDR testing availa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ble testing will include both SDR and DD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DDR Device testing will be conducted using the latest techniques and Tektronix equi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52336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DR and DDR testing detail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ysical laye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ble testing will include both SDR and DDR tes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DR and DDR Device testing will be conducted using the latest techniques and Tektronix equipment.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ugene Mayevskiy - Tektroni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ay Diepenbrock - IBM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ohn Calvin – Tektronix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col Layer Tes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esting will be conducted using the Agilent E2954 SDR Generat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re is currently no DDR generator avail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ddressing, Management, Network and Transport tests are not affected by DD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nk Layer tes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7 of 42 tests are not affected by SDR/DDR issu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7-053 and C7-070 will only be verified at SDR ra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grators Lis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518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990720"/>
            <a:ext cx="7947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ition of the Integrator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List includes a set of devices that passed the specified testing suite at a certain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IWG defines the testing process and the actual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grators List has been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rrent – this list includes all and devices which passed at the most recent Plugf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chives - An Integrators' List has been published for each Plugfest since the first one in June 20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  <a:hlinkClick r:id="rId1"/>
              </a:rPr>
              <a:t>http://www.infinibandta.org/itinfo/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ri Winterberg</cp:lastModifiedBy>
  <dcterms:modified xsi:type="dcterms:W3CDTF">2006-09-25T03:16:16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