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44BF-FC54-48DC-9901-4F7A5589D4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58D3-67C0-48DF-BB61-B79B88DB937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7CD1-1E26-4CFA-A4EB-B35A521B727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1B4E-076D-4E45-833F-878193FB546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360D-B73F-4B79-934C-CF4E6F92415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F1BA02B1-4CD7-4AA7-8F67-5C5BB2F46D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66C9-4E75-4CE4-8724-DCF04A698CB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FEBE-1EA5-4A8B-B65A-3B1948FCACC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 Services on each Compute Node, allowing you to basically send a whole workbook to each compute node (for Long-Running Workbooks)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DA02-77B8-4DA8-A646-4F8159B561E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C655-CAE3-46F9-9638-A47A1C45BBA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2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218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ms-logo_small"/>
          <p:cNvPicPr/>
          <p:nvPr/>
        </p:nvPicPr>
        <p:blipFill>
          <a:blip r:embed="rId3"/>
          <a:stretch/>
        </p:blipFill>
        <p:spPr>
          <a:xfrm>
            <a:off x="7524720" y="6421320"/>
            <a:ext cx="1343160" cy="247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514600" indent="-1792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514600" indent="-1792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514600" indent="-1792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514600" indent="-1792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514600" indent="-1792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514600" indent="-1792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Picture 6" descr="ms-logo_small"/>
          <p:cNvPicPr/>
          <p:nvPr/>
        </p:nvPicPr>
        <p:blipFill>
          <a:blip r:embed="rId10"/>
          <a:stretch/>
        </p:blipFill>
        <p:spPr>
          <a:xfrm>
            <a:off x="7354800" y="6291360"/>
            <a:ext cx="1343160" cy="24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1.png"/><Relationship Id="rId23" Type="http://schemas.openxmlformats.org/officeDocument/2006/relationships/image" Target="../media/image23.png"/><Relationship Id="rId24" Type="http://schemas.openxmlformats.org/officeDocument/2006/relationships/image" Target="../media/image21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7120" indent="0" algn="ctr"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enFabrics Windows Developmen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57120"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Microsoft Windows CCS 2003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7120"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Performance Tuning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application is different (parallel, small messages passing, large messages passing) and is sensitive to different critical factors. A unique set of mechanisms and parameters need to be applied to each application for optimal performan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Facto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Network bandwidth, Network latency, Physical RAM, CP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ed, Number of CPUs per node, File system speed, Job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edu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chanis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 RDMA zero copy for better throughpu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hen long transf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Offloads (TCP, checksum, 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rs paramete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MPICH_SOCKET_SBUFFER_SIZE to zero for bett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ough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IBWSD_POLL ~500 for low latenc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GigE: CPU interrupt modulation off for low cpu u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InfiniBand in Microsoft’s Labs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PC tea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6 clusters [6-20 nodes]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IB equipment for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teams with smaller scale cluster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indows Net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indows Service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indows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ql Serv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WHQL for InfiniBand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22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35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QL = Windows Hardware Quality Lab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79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WHQL? High quality set of drivers fo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n by Windows Networking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794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microsoft.com/whdc/whql/default.msp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5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5000" y="1417320"/>
            <a:ext cx="41022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est suite for WSD providers and IP over IB Miniport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794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 functional test only (no code covera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ature covers networking only (no stora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High Speed Networking: Next Steps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46320" indent="-34632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ibute back to open-source project (MPICH2/Argonne National Laboratory) with MPI perf enhancements.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PC is the first team at Microsoft contributing to an open-source project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0-6 months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6320" indent="-34632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SzPct val="1079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ance tuning whitepaper coming soon. [0-3 months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6320" indent="-34632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Networking releases QFE with perf enhancements .[0-3 months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6320" indent="-34632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SzPct val="10794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perf work in general for WSD, MS-MPI, openI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6320" indent="-34632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network diagnosis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External Resources</a:t>
            </a:r>
            <a:br>
              <a:rPr sz="3200"/>
            </a:b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72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oft HPC Web Sit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ttp://www.microsoft.com/hp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oft HPC Community Site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http://windowshpc.net/defaul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 Information </a:t>
            </a:r>
            <a:r>
              <a:rPr b="0" lang="en-US" sz="2000" spc="-1" strike="noStrike" u="sng">
                <a:solidFill>
                  <a:srgbClr val="a3dffe"/>
                </a:solidFill>
                <a:uFillTx/>
                <a:latin typeface="Arial"/>
              </a:rPr>
              <a:t>http://www.microsoft.com/windowsserver2003/ccs/partners/partnerlist.m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Turbocharged Apps for Windows Compute Cluster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ttp://msdn.microsoft.com/msdnmag/issues/06/04/ClusterComputing/default.asp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gonne National Lab’s MPI Web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3dffe"/>
                </a:solidFill>
                <a:uFillTx/>
                <a:latin typeface="Arial"/>
              </a:rPr>
              <a:t>http://www-unix.mcs.anl.gov/mpi/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ning MPI Programs for Peak 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3dffe"/>
                </a:solidFill>
                <a:uFillTx/>
                <a:latin typeface="Arial"/>
              </a:rPr>
              <a:t>http://mpc.uci.edu/wget/www-unix.mcs.anl.gov/mpi/tutorial/perf/mpiperf/index.ht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sock Direct Stability Pa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3dffe"/>
                </a:solidFill>
                <a:uFillTx/>
                <a:latin typeface="Arial"/>
              </a:rPr>
              <a:t>http://support.microsoft.com/kb/9104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3dffe"/>
                </a:solidFill>
                <a:uFillTx/>
                <a:latin typeface="Arial"/>
              </a:rPr>
              <a:t>http://www.microsoft.com/downloads/details.aspx?familyid=A747A23D-CF52-493C-943B-B95051F42D68&amp;displaylang=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2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 algn="ct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 &amp;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57120"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360360" y="5904000"/>
            <a:ext cx="8148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© 2005 Microsoft Corporation.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3" descr="Microsoft logo and tagline"/>
          <p:cNvPicPr/>
          <p:nvPr/>
        </p:nvPicPr>
        <p:blipFill>
          <a:blip r:embed="rId2">
            <a:lum bright="50000"/>
          </a:blip>
          <a:stretch/>
        </p:blipFill>
        <p:spPr>
          <a:xfrm>
            <a:off x="1598760" y="2516040"/>
            <a:ext cx="5913360" cy="12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Top500 with InfiniBand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ked 130 on the Top500 list – April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 Cluster Server V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on 896 processors Dell PowerEdge 1855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-  openIB + open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max = 4.1 TFlo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72% Efficiency (Rmax/Rpea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Rpeak = Nproc x cpu speed x n flops/cl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896 x 3.2 Ghz x 2 = 5.734 TFlop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&gt;&gt; But goal = not Top500 but to create a product that responds to Industry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8-00003_Partners-logo06"/>
          <p:cNvPicPr/>
          <p:nvPr/>
        </p:nvPicPr>
        <p:blipFill>
          <a:blip r:embed="rId2"/>
          <a:stretch/>
        </p:blipFill>
        <p:spPr>
          <a:xfrm>
            <a:off x="0" y="4842000"/>
            <a:ext cx="9144000" cy="652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8-00003_Partners-logo01"/>
          <p:cNvPicPr/>
          <p:nvPr/>
        </p:nvPicPr>
        <p:blipFill>
          <a:blip r:embed="rId3"/>
          <a:stretch/>
        </p:blipFill>
        <p:spPr>
          <a:xfrm>
            <a:off x="0" y="985680"/>
            <a:ext cx="9144000" cy="660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8-00003_Partners-logo02"/>
          <p:cNvPicPr/>
          <p:nvPr/>
        </p:nvPicPr>
        <p:blipFill>
          <a:blip r:embed="rId4"/>
          <a:stretch/>
        </p:blipFill>
        <p:spPr>
          <a:xfrm>
            <a:off x="0" y="1779480"/>
            <a:ext cx="9144000" cy="696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8-00003_Partners-logo03"/>
          <p:cNvPicPr/>
          <p:nvPr/>
        </p:nvPicPr>
        <p:blipFill>
          <a:blip r:embed="rId5"/>
          <a:stretch/>
        </p:blipFill>
        <p:spPr>
          <a:xfrm>
            <a:off x="0" y="2610000"/>
            <a:ext cx="9144000" cy="588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8-00003_Partners-logo04"/>
          <p:cNvPicPr/>
          <p:nvPr/>
        </p:nvPicPr>
        <p:blipFill>
          <a:blip r:embed="rId6"/>
          <a:stretch/>
        </p:blipFill>
        <p:spPr>
          <a:xfrm>
            <a:off x="0" y="3332160"/>
            <a:ext cx="9144000" cy="615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8-00003_Partners-logo05"/>
          <p:cNvPicPr/>
          <p:nvPr/>
        </p:nvPicPr>
        <p:blipFill>
          <a:blip r:embed="rId7"/>
          <a:stretch/>
        </p:blipFill>
        <p:spPr>
          <a:xfrm>
            <a:off x="0" y="4081320"/>
            <a:ext cx="9144000" cy="6256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Partners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79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Market Perspective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920" y="1060560"/>
          <a:ext cx="8534160" cy="4773600"/>
        </p:xfrm>
        <a:graphic>
          <a:graphicData uri="http://schemas.openxmlformats.org/drawingml/2006/table">
            <a:tbl>
              <a:tblPr/>
              <a:tblGrid>
                <a:gridCol w="1447560"/>
                <a:gridCol w="2057400"/>
                <a:gridCol w="2362320"/>
                <a:gridCol w="2666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19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19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Cray Y-MP C9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Sun HPC10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Small Form Factor P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Architectu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16 x Vecto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4GB, Bu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24 x 333MHz Ultra-SPARCII, 24GB, SBu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4 x 2.2GHz Athlon64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4GB, Gi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UNIC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Solaris 2.5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Windows Server 2003 SP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Perform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~10 GFlop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~10 GFlop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~10 GFlop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Top500 #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N/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$40,00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$1,000,000 (40x drop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&lt; $4,000 (250x drop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Custom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Government Lab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Large Enterpris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Every Engineer &amp; Scientis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Applic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Classified, Climate, Physics Resear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Manufacturing, Energy, Finance, Telec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egoe Semibold"/>
                        </a:rPr>
                        <a:t>Bioinformatics, Materials Sciences, Digital Me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7" name="Group 55"/>
          <p:cNvGrpSpPr/>
          <p:nvPr/>
        </p:nvGrpSpPr>
        <p:grpSpPr>
          <a:xfrm>
            <a:off x="6516720" y="1898640"/>
            <a:ext cx="2169720" cy="1249200"/>
            <a:chOff x="6516720" y="1898640"/>
            <a:chExt cx="2169720" cy="1249200"/>
          </a:xfrm>
        </p:grpSpPr>
        <p:pic>
          <p:nvPicPr>
            <p:cNvPr id="98" name="Picture 56" descr=""/>
            <p:cNvPicPr/>
            <p:nvPr/>
          </p:nvPicPr>
          <p:blipFill>
            <a:blip r:embed="rId2"/>
            <a:stretch/>
          </p:blipFill>
          <p:spPr>
            <a:xfrm>
              <a:off x="6516720" y="1898640"/>
              <a:ext cx="1749960" cy="124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Group 57"/>
            <p:cNvGrpSpPr/>
            <p:nvPr/>
          </p:nvGrpSpPr>
          <p:grpSpPr>
            <a:xfrm>
              <a:off x="7566480" y="1973880"/>
              <a:ext cx="1119960" cy="936360"/>
              <a:chOff x="7566480" y="1973880"/>
              <a:chExt cx="1119960" cy="936360"/>
            </a:xfrm>
          </p:grpSpPr>
          <p:pic>
            <p:nvPicPr>
              <p:cNvPr id="100" name="Picture 58" descr=""/>
              <p:cNvPicPr/>
              <p:nvPr/>
            </p:nvPicPr>
            <p:blipFill>
              <a:blip r:embed="rId3"/>
              <a:stretch/>
            </p:blipFill>
            <p:spPr>
              <a:xfrm>
                <a:off x="7566480" y="1973880"/>
                <a:ext cx="579240" cy="50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59" descr=""/>
              <p:cNvPicPr/>
              <p:nvPr/>
            </p:nvPicPr>
            <p:blipFill>
              <a:blip r:embed="rId4"/>
              <a:stretch/>
            </p:blipFill>
            <p:spPr>
              <a:xfrm>
                <a:off x="8107200" y="1973880"/>
                <a:ext cx="579240" cy="50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Picture 60" descr=""/>
              <p:cNvPicPr/>
              <p:nvPr/>
            </p:nvPicPr>
            <p:blipFill>
              <a:blip r:embed="rId5"/>
              <a:stretch/>
            </p:blipFill>
            <p:spPr>
              <a:xfrm>
                <a:off x="7566480" y="2409840"/>
                <a:ext cx="579240" cy="50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Picture 61" descr=""/>
              <p:cNvPicPr/>
              <p:nvPr/>
            </p:nvPicPr>
            <p:blipFill>
              <a:blip r:embed="rId6"/>
              <a:stretch/>
            </p:blipFill>
            <p:spPr>
              <a:xfrm>
                <a:off x="8107200" y="2409840"/>
                <a:ext cx="579240" cy="500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4" name="Picture 62" descr=""/>
          <p:cNvPicPr/>
          <p:nvPr/>
        </p:nvPicPr>
        <p:blipFill>
          <a:blip r:embed="rId7"/>
          <a:stretch/>
        </p:blipFill>
        <p:spPr>
          <a:xfrm>
            <a:off x="4626000" y="1898640"/>
            <a:ext cx="842760" cy="1320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3" descr=""/>
          <p:cNvPicPr/>
          <p:nvPr/>
        </p:nvPicPr>
        <p:blipFill>
          <a:blip r:embed="rId8"/>
          <a:stretch/>
        </p:blipFill>
        <p:spPr>
          <a:xfrm>
            <a:off x="1881360" y="1847880"/>
            <a:ext cx="1753920" cy="14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Customers Needs Today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838836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66"/>
                </a:solidFill>
                <a:latin typeface="Arial"/>
              </a:rPr>
              <a:t>Custom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2351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integrated supported solution st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2351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ified job submission, status and progress moni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2351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compute performance and scal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2351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ified environment from desktops to HPC clus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66"/>
                </a:solidFill>
                <a:latin typeface="Arial"/>
              </a:rPr>
              <a:t>Administrato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2351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ter cluster monitoring and management for maximum resource uti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2351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exible, extensible, policy-driven job scheduling and resource allo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2351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imum node up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2351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e process startup and complete clean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66"/>
                </a:solidFill>
                <a:latin typeface="Arial"/>
              </a:rPr>
              <a:t>Develop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2351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ming environment that enables maximum produc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2351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ailability and optimized compilers (Fortran) and math libra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2351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llel debugger, profiler, and visualization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23510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llel programming models (MP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6184800" y="360360"/>
            <a:ext cx="2130120" cy="1694880"/>
            <a:chOff x="6184800" y="360360"/>
            <a:chExt cx="2130120" cy="1694880"/>
          </a:xfrm>
        </p:grpSpPr>
        <p:pic>
          <p:nvPicPr>
            <p:cNvPr id="109" name="Picture 5" descr="gray-disc"/>
            <p:cNvPicPr/>
            <p:nvPr/>
          </p:nvPicPr>
          <p:blipFill>
            <a:blip r:embed="rId14">
              <a:lum bright="12000"/>
            </a:blip>
            <a:stretch/>
          </p:blipFill>
          <p:spPr>
            <a:xfrm>
              <a:off x="6184800" y="703080"/>
              <a:ext cx="2130120" cy="135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6" descr="blue 3d disc with glow"/>
            <p:cNvPicPr/>
            <p:nvPr/>
          </p:nvPicPr>
          <p:blipFill>
            <a:blip r:embed="rId15">
              <a:lum bright="12000"/>
            </a:blip>
            <a:stretch/>
          </p:blipFill>
          <p:spPr>
            <a:xfrm>
              <a:off x="7331040" y="795600"/>
              <a:ext cx="687600" cy="51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7" descr="Host Integration Server (HIS) sm"/>
            <p:cNvPicPr/>
            <p:nvPr/>
          </p:nvPicPr>
          <p:blipFill>
            <a:blip r:embed="rId16">
              <a:lum bright="18000"/>
            </a:blip>
            <a:stretch/>
          </p:blipFill>
          <p:spPr>
            <a:xfrm>
              <a:off x="7437600" y="360360"/>
              <a:ext cx="480600" cy="843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" name="Group 8"/>
            <p:cNvGrpSpPr/>
            <p:nvPr/>
          </p:nvGrpSpPr>
          <p:grpSpPr>
            <a:xfrm>
              <a:off x="6485760" y="604800"/>
              <a:ext cx="377280" cy="473400"/>
              <a:chOff x="6485760" y="604800"/>
              <a:chExt cx="377280" cy="473400"/>
            </a:xfrm>
          </p:grpSpPr>
          <p:pic>
            <p:nvPicPr>
              <p:cNvPr id="113" name="Picture 9" descr="blue 3d disc with glow"/>
              <p:cNvPicPr/>
              <p:nvPr/>
            </p:nvPicPr>
            <p:blipFill>
              <a:blip r:embed="rId17">
                <a:lum bright="12000"/>
              </a:blip>
              <a:stretch/>
            </p:blipFill>
            <p:spPr>
              <a:xfrm>
                <a:off x="6485760" y="785880"/>
                <a:ext cx="377280" cy="29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10" descr="Server sm"/>
              <p:cNvPicPr/>
              <p:nvPr/>
            </p:nvPicPr>
            <p:blipFill>
              <a:blip r:embed="rId18">
                <a:lum bright="12000"/>
              </a:blip>
              <a:stretch/>
            </p:blipFill>
            <p:spPr>
              <a:xfrm>
                <a:off x="6566760" y="604800"/>
                <a:ext cx="222120" cy="392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5" name="Group 11"/>
            <p:cNvGrpSpPr/>
            <p:nvPr/>
          </p:nvGrpSpPr>
          <p:grpSpPr>
            <a:xfrm>
              <a:off x="6821640" y="639360"/>
              <a:ext cx="377280" cy="473760"/>
              <a:chOff x="6821640" y="639360"/>
              <a:chExt cx="377280" cy="473760"/>
            </a:xfrm>
          </p:grpSpPr>
          <p:pic>
            <p:nvPicPr>
              <p:cNvPr id="116" name="Picture 12" descr="blue 3d disc with glow"/>
              <p:cNvPicPr/>
              <p:nvPr/>
            </p:nvPicPr>
            <p:blipFill>
              <a:blip r:embed="rId19">
                <a:lum bright="12000"/>
              </a:blip>
              <a:stretch/>
            </p:blipFill>
            <p:spPr>
              <a:xfrm>
                <a:off x="6821640" y="820080"/>
                <a:ext cx="377280" cy="29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Picture 13" descr="Server sm"/>
              <p:cNvPicPr/>
              <p:nvPr/>
            </p:nvPicPr>
            <p:blipFill>
              <a:blip r:embed="rId20">
                <a:lum bright="12000"/>
              </a:blip>
              <a:stretch/>
            </p:blipFill>
            <p:spPr>
              <a:xfrm>
                <a:off x="6910200" y="639360"/>
                <a:ext cx="222120" cy="393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" name="Group 14"/>
            <p:cNvGrpSpPr/>
            <p:nvPr/>
          </p:nvGrpSpPr>
          <p:grpSpPr>
            <a:xfrm>
              <a:off x="6949080" y="982440"/>
              <a:ext cx="377280" cy="480960"/>
              <a:chOff x="6949080" y="982440"/>
              <a:chExt cx="377280" cy="480960"/>
            </a:xfrm>
          </p:grpSpPr>
          <p:pic>
            <p:nvPicPr>
              <p:cNvPr id="119" name="Picture 15" descr="blue 3d disc with glow"/>
              <p:cNvPicPr/>
              <p:nvPr/>
            </p:nvPicPr>
            <p:blipFill>
              <a:blip r:embed="rId21">
                <a:lum bright="12000"/>
              </a:blip>
              <a:stretch/>
            </p:blipFill>
            <p:spPr>
              <a:xfrm>
                <a:off x="6949080" y="1170360"/>
                <a:ext cx="377280" cy="29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Picture 16" descr="Server sm"/>
              <p:cNvPicPr/>
              <p:nvPr/>
            </p:nvPicPr>
            <p:blipFill>
              <a:blip r:embed="rId22">
                <a:lum bright="12000"/>
              </a:blip>
              <a:stretch/>
            </p:blipFill>
            <p:spPr>
              <a:xfrm>
                <a:off x="7030080" y="982440"/>
                <a:ext cx="222120" cy="392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" name="Group 17"/>
            <p:cNvGrpSpPr/>
            <p:nvPr/>
          </p:nvGrpSpPr>
          <p:grpSpPr>
            <a:xfrm>
              <a:off x="6598800" y="882360"/>
              <a:ext cx="375480" cy="480960"/>
              <a:chOff x="6598800" y="882360"/>
              <a:chExt cx="375480" cy="480960"/>
            </a:xfrm>
          </p:grpSpPr>
          <p:pic>
            <p:nvPicPr>
              <p:cNvPr id="122" name="Picture 18" descr="blue 3d disc with glow"/>
              <p:cNvPicPr/>
              <p:nvPr/>
            </p:nvPicPr>
            <p:blipFill>
              <a:blip r:embed="rId23">
                <a:lum bright="12000"/>
              </a:blip>
              <a:stretch/>
            </p:blipFill>
            <p:spPr>
              <a:xfrm>
                <a:off x="6598800" y="1070640"/>
                <a:ext cx="375480" cy="29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Picture 19" descr="Server sm"/>
              <p:cNvPicPr/>
              <p:nvPr/>
            </p:nvPicPr>
            <p:blipFill>
              <a:blip r:embed="rId24">
                <a:lum bright="12000"/>
              </a:blip>
              <a:stretch/>
            </p:blipFill>
            <p:spPr>
              <a:xfrm>
                <a:off x="6679440" y="882360"/>
                <a:ext cx="221040" cy="392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21844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CCS Key Features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4103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c811"/>
                </a:solidFill>
                <a:latin typeface="Arial"/>
              </a:rPr>
              <a:t>Integration with existing Windows and management infra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39058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grates with AD, Windows security and existing systems management  and deployment too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c811"/>
                </a:solidFill>
                <a:latin typeface="Arial"/>
              </a:rPr>
              <a:t>Node Deployment and Administ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39058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ute nodes automatically imaged and added to clu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39058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de Management through UI and command lin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39058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Do List to configure head n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c811"/>
                </a:solidFill>
                <a:latin typeface="Arial"/>
              </a:rPr>
              <a:t>Extensible job schedu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39058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party extensibility at job submission and/or job assig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39058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amples: admission policies and license verifica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39058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bmit jobs from command line, UI, or directly from appli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39058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e management, similar to print queue manag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c811"/>
                </a:solidFill>
                <a:latin typeface="Arial"/>
              </a:rPr>
              <a:t>Secure M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2351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 credentials secured in job scheduler and compute n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39058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ndardized MPI st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39058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crosoft provided stack reduces application/MPI incompatibility iss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c811"/>
                </a:solidFill>
                <a:latin typeface="Arial"/>
              </a:rPr>
              <a:t>Integration with new App Development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xcel 12</a:t>
            </a:r>
            <a:r>
              <a:rPr b="0" lang="en-US" sz="1800" spc="-1" strike="noStrike">
                <a:solidFill>
                  <a:srgbClr val="fac811"/>
                </a:solidFill>
                <a:latin typeface="Arial"/>
              </a:rPr>
              <a:t>, Mat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Excel 12 and </a:t>
            </a:r>
            <a:br>
              <a:rPr sz="3200"/>
            </a:b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CCS integration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-762120" y="762120"/>
            <a:ext cx="8794800" cy="55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611280" y="1268280"/>
            <a:ext cx="7407360" cy="4192560"/>
          </a:xfrm>
          <a:prstGeom prst="pie">
            <a:avLst/>
          </a:prstGeom>
          <a:noFill/>
          <a:ln cap="rnd" w="39600">
            <a:solidFill>
              <a:srgbClr val="b409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curved arrow long thin blue"/>
          <p:cNvPicPr/>
          <p:nvPr/>
        </p:nvPicPr>
        <p:blipFill>
          <a:blip r:embed="rId2"/>
          <a:stretch/>
        </p:blipFill>
        <p:spPr>
          <a:xfrm>
            <a:off x="684360" y="1197000"/>
            <a:ext cx="8001000" cy="4000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HP Compaq Proliant ML server"/>
          <p:cNvPicPr/>
          <p:nvPr/>
        </p:nvPicPr>
        <p:blipFill>
          <a:blip r:embed="rId3"/>
          <a:stretch/>
        </p:blipFill>
        <p:spPr>
          <a:xfrm>
            <a:off x="3886200" y="2743200"/>
            <a:ext cx="62856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HP Compaq d530 Ultra slim with bliss"/>
          <p:cNvPicPr/>
          <p:nvPr/>
        </p:nvPicPr>
        <p:blipFill>
          <a:blip r:embed="rId4"/>
          <a:stretch/>
        </p:blipFill>
        <p:spPr>
          <a:xfrm>
            <a:off x="1066680" y="3809880"/>
            <a:ext cx="1249560" cy="1163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1209600" y="56386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k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3710520" y="5661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6014160" y="5661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us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2484360" y="2133720"/>
            <a:ext cx="230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l Compu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EC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3348000" y="189000"/>
            <a:ext cx="458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l Calculation on Compute Cluster Server 2003 (workbook with ECS or formula with ex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914040" y="317196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l “12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932360" y="907920"/>
            <a:ext cx="2316240" cy="1695600"/>
            <a:chOff x="4932360" y="907920"/>
            <a:chExt cx="2316240" cy="1695600"/>
          </a:xfrm>
        </p:grpSpPr>
        <p:pic>
          <p:nvPicPr>
            <p:cNvPr id="139" name="" descr=""/>
            <p:cNvPicPr/>
            <p:nvPr/>
          </p:nvPicPr>
          <p:blipFill>
            <a:blip r:embed="rId5"/>
            <a:stretch/>
          </p:blipFill>
          <p:spPr>
            <a:xfrm>
              <a:off x="4932360" y="2039760"/>
              <a:ext cx="38412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6"/>
            <a:stretch/>
          </p:blipFill>
          <p:spPr>
            <a:xfrm>
              <a:off x="5327640" y="2039760"/>
              <a:ext cx="38412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7"/>
            <a:stretch/>
          </p:blipFill>
          <p:spPr>
            <a:xfrm>
              <a:off x="5688000" y="2039760"/>
              <a:ext cx="38412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8"/>
            <a:stretch/>
          </p:blipFill>
          <p:spPr>
            <a:xfrm>
              <a:off x="6083280" y="2039760"/>
              <a:ext cx="38412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9"/>
            <a:stretch/>
          </p:blipFill>
          <p:spPr>
            <a:xfrm>
              <a:off x="6476760" y="2030400"/>
              <a:ext cx="384480" cy="5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10"/>
            <a:stretch/>
          </p:blipFill>
          <p:spPr>
            <a:xfrm>
              <a:off x="6864120" y="2030400"/>
              <a:ext cx="384480" cy="5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11"/>
            <a:stretch/>
          </p:blipFill>
          <p:spPr>
            <a:xfrm>
              <a:off x="5673600" y="907920"/>
              <a:ext cx="6876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12"/>
            <a:stretch/>
          </p:blipFill>
          <p:spPr>
            <a:xfrm>
              <a:off x="6146640" y="1522440"/>
              <a:ext cx="36504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"/>
          <p:cNvSpPr/>
          <p:nvPr/>
        </p:nvSpPr>
        <p:spPr>
          <a:xfrm>
            <a:off x="4716360" y="393372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enario 1: entire workbooks sent t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des where there is an ECS that does the computation and post back on s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enario 2:  job submit of exe containing excel formula on node. More granular but more dev work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High- Performance Networking Options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5508720" cy="55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90000"/>
              </a:lnSpc>
              <a:spcBef>
                <a:spcPts val="561"/>
              </a:spcBef>
              <a:spcAft>
                <a:spcPts val="451"/>
              </a:spcAft>
              <a:buSzPct val="14398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S-MPI: based on MPICH2 implementation by Argonne of MPI spec (open-sour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3400" indent="0">
              <a:lnSpc>
                <a:spcPct val="90000"/>
              </a:lnSpc>
              <a:spcBef>
                <a:spcPts val="437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u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which is why not 100% compa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33400" indent="0">
              <a:lnSpc>
                <a:spcPct val="90000"/>
              </a:lnSpc>
              <a:spcBef>
                <a:spcPts val="437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msmpi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orts any interconnect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that plugs into windows at the same time thanks to windows networking stack. Mpiexec cmd with different network mask to switch fabri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33400" indent="0">
              <a:lnSpc>
                <a:spcPct val="90000"/>
              </a:lnSpc>
              <a:spcBef>
                <a:spcPts val="437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y MPI works on CC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not restricted to msmp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561"/>
              </a:spcBef>
              <a:spcAft>
                <a:spcPts val="451"/>
              </a:spcAft>
              <a:buSzPct val="14398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sock Dire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37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 exploits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DMA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pability in provi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37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fferent interconnect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t the same time with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chan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f wsd, app, MP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37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pgrad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erconnect (ex:IB driver) no chan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37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etter thoughput/latenc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37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all app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nefit not just MPI ap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37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plug custom fabric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devel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561"/>
              </a:spcBef>
              <a:spcAft>
                <a:spcPts val="451"/>
              </a:spcAft>
              <a:buSzPct val="14398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conn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37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IB for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-latency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igE, Myrinet, etc 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437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 flipV="1">
            <a:off x="6443640" y="3499920"/>
            <a:ext cx="1528920" cy="972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 flipV="1">
            <a:off x="6516720" y="4436640"/>
            <a:ext cx="1528560" cy="972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7"/>
          <p:cNvSpPr/>
          <p:nvPr/>
        </p:nvSpPr>
        <p:spPr>
          <a:xfrm>
            <a:off x="7524720" y="1916280"/>
            <a:ext cx="0" cy="792000"/>
          </a:xfrm>
          <a:prstGeom prst="line">
            <a:avLst/>
          </a:prstGeom>
          <a:ln w="12600">
            <a:solidFill>
              <a:srgbClr val="e78e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 flipH="1">
            <a:off x="7164000" y="3573360"/>
            <a:ext cx="9720" cy="831960"/>
          </a:xfrm>
          <a:prstGeom prst="line">
            <a:avLst/>
          </a:prstGeom>
          <a:ln w="12600">
            <a:solidFill>
              <a:srgbClr val="e78e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8029080" y="2637000"/>
            <a:ext cx="91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MS-MP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8015400" y="3860640"/>
            <a:ext cx="965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In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Conn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8115120" y="335772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"/>
              </a:rPr>
              <a:t>WS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6330240" y="14860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5"/>
          <p:cNvSpPr/>
          <p:nvPr/>
        </p:nvSpPr>
        <p:spPr>
          <a:xfrm>
            <a:off x="6659640" y="1916280"/>
            <a:ext cx="0" cy="1366560"/>
          </a:xfrm>
          <a:prstGeom prst="line">
            <a:avLst/>
          </a:prstGeom>
          <a:ln w="12600">
            <a:solidFill>
              <a:srgbClr val="e78e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7093080" y="2852640"/>
            <a:ext cx="879480" cy="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7"/>
          <p:cNvSpPr/>
          <p:nvPr/>
        </p:nvSpPr>
        <p:spPr>
          <a:xfrm>
            <a:off x="7524720" y="2924280"/>
            <a:ext cx="0" cy="433440"/>
          </a:xfrm>
          <a:prstGeom prst="line">
            <a:avLst/>
          </a:prstGeom>
          <a:ln w="12600">
            <a:solidFill>
              <a:srgbClr val="e78e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reeform 2"/>
          <p:cNvSpPr/>
          <p:nvPr/>
        </p:nvSpPr>
        <p:spPr>
          <a:xfrm>
            <a:off x="1066680" y="3809880"/>
            <a:ext cx="5677200" cy="1981440"/>
          </a:xfrm>
          <a:prstGeom prst="pie">
            <a:avLst/>
          </a:prstGeom>
          <a:gradFill rotWithShape="0">
            <a:gsLst>
              <a:gs pos="0">
                <a:srgbClr val="15485f">
                  <a:alpha val="80000"/>
                </a:srgbClr>
              </a:gs>
              <a:gs pos="50000">
                <a:srgbClr val="206d90">
                  <a:alpha val="80000"/>
                </a:srgbClr>
              </a:gs>
              <a:gs pos="100000">
                <a:srgbClr val="15485f">
                  <a:alpha val="80000"/>
                </a:srgbClr>
              </a:gs>
            </a:gsLst>
            <a:lin ang="2700000"/>
          </a:gradFill>
          <a:ln w="12600">
            <a:solidFill>
              <a:srgbClr val="5bb3d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1066680" y="1154160"/>
            <a:ext cx="5677200" cy="3354480"/>
          </a:xfrm>
          <a:prstGeom prst="pie">
            <a:avLst/>
          </a:prstGeom>
          <a:gradFill rotWithShape="0">
            <a:gsLst>
              <a:gs pos="0">
                <a:srgbClr val="15485f">
                  <a:alpha val="80000"/>
                </a:srgbClr>
              </a:gs>
              <a:gs pos="50000">
                <a:srgbClr val="206d90">
                  <a:alpha val="80000"/>
                </a:srgbClr>
              </a:gs>
              <a:gs pos="100000">
                <a:srgbClr val="15485f">
                  <a:alpha val="80000"/>
                </a:srgbClr>
              </a:gs>
            </a:gsLst>
            <a:lin ang="2700000"/>
          </a:gradFill>
          <a:ln w="12600">
            <a:solidFill>
              <a:srgbClr val="5bb3d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MS MPI Leverages Winsock Direct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074600" y="5815080"/>
            <a:ext cx="5672160" cy="2808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a26120">
                  <a:alpha val="70196"/>
                </a:srgbClr>
              </a:gs>
              <a:gs pos="50000">
                <a:srgbClr val="ff9933">
                  <a:alpha val="70196"/>
                </a:srgbClr>
              </a:gs>
              <a:gs pos="100000">
                <a:srgbClr val="a26120">
                  <a:alpha val="70196"/>
                </a:srgbClr>
              </a:gs>
            </a:gsLst>
            <a:lin ang="2700000"/>
          </a:gra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Networking Hardwa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1231920" y="5433840"/>
            <a:ext cx="2666880" cy="2811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20606">
                  <a:alpha val="70196"/>
                </a:srgbClr>
              </a:gs>
              <a:gs pos="50000">
                <a:srgbClr val="b4090a">
                  <a:alpha val="70196"/>
                </a:srgbClr>
              </a:gs>
              <a:gs pos="100000">
                <a:srgbClr val="720606">
                  <a:alpha val="70196"/>
                </a:srgbClr>
              </a:gs>
            </a:gsLst>
            <a:lin ang="2700000"/>
          </a:gradFill>
          <a:ln w="12600">
            <a:solidFill>
              <a:srgbClr val="b409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Virtual Bus Driv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2222640" y="4290840"/>
            <a:ext cx="1676160" cy="2811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d4d0a">
                  <a:alpha val="70196"/>
                </a:srgbClr>
              </a:gs>
              <a:gs pos="50000">
                <a:srgbClr val="e78e13">
                  <a:alpha val="70196"/>
                </a:srgbClr>
              </a:gs>
              <a:gs pos="100000">
                <a:srgbClr val="7d4d0a">
                  <a:alpha val="70196"/>
                </a:srgbClr>
              </a:gs>
            </a:gsLst>
            <a:lin ang="2700000"/>
          </a:gradFill>
          <a:ln w="12600">
            <a:solidFill>
              <a:srgbClr val="8a14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I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2222640" y="4010040"/>
            <a:ext cx="1676160" cy="2808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d4d0a">
                  <a:alpha val="70196"/>
                </a:srgbClr>
              </a:gs>
              <a:gs pos="50000">
                <a:srgbClr val="e78e13">
                  <a:alpha val="70196"/>
                </a:srgbClr>
              </a:gs>
              <a:gs pos="100000">
                <a:srgbClr val="7d4d0a">
                  <a:alpha val="70196"/>
                </a:srgbClr>
              </a:gs>
            </a:gsLst>
            <a:lin ang="2700000"/>
          </a:gradFill>
          <a:ln w="12600">
            <a:solidFill>
              <a:srgbClr val="8a14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TC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5194440" y="3936960"/>
            <a:ext cx="1477800" cy="461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20606">
                  <a:alpha val="70196"/>
                </a:srgbClr>
              </a:gs>
              <a:gs pos="50000">
                <a:srgbClr val="b4090a">
                  <a:alpha val="70196"/>
                </a:srgbClr>
              </a:gs>
              <a:gs pos="100000">
                <a:srgbClr val="720606">
                  <a:alpha val="70196"/>
                </a:srgbClr>
              </a:gs>
            </a:gsLst>
            <a:lin ang="2700000"/>
          </a:gradFill>
          <a:ln w="12600">
            <a:solidFill>
              <a:srgbClr val="b409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User Host Channel Adapter Driv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4127400" y="3173400"/>
            <a:ext cx="1737000" cy="2811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20606">
                  <a:alpha val="70196"/>
                </a:srgbClr>
              </a:gs>
              <a:gs pos="50000">
                <a:srgbClr val="b4090a">
                  <a:alpha val="70196"/>
                </a:srgbClr>
              </a:gs>
              <a:gs pos="100000">
                <a:srgbClr val="720606">
                  <a:alpha val="70196"/>
                </a:srgbClr>
              </a:gs>
            </a:gsLst>
            <a:lin ang="2700000"/>
          </a:gradFill>
          <a:ln w="12600">
            <a:solidFill>
              <a:srgbClr val="b409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IB WinSock Provider D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1"/>
          <p:cNvSpPr/>
          <p:nvPr/>
        </p:nvSpPr>
        <p:spPr>
          <a:xfrm>
            <a:off x="2832120" y="2590920"/>
            <a:ext cx="1308240" cy="520560"/>
          </a:xfrm>
          <a:prstGeom prst="line">
            <a:avLst/>
          </a:prstGeom>
          <a:ln w="19080">
            <a:solidFill>
              <a:srgbClr val="ffffff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2"/>
          <p:cNvSpPr/>
          <p:nvPr/>
        </p:nvSpPr>
        <p:spPr>
          <a:xfrm>
            <a:off x="2832120" y="2590920"/>
            <a:ext cx="152280" cy="1447560"/>
          </a:xfrm>
          <a:prstGeom prst="line">
            <a:avLst/>
          </a:prstGeom>
          <a:ln w="19080">
            <a:solidFill>
              <a:srgbClr val="ffffff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3"/>
          <p:cNvSpPr/>
          <p:nvPr/>
        </p:nvSpPr>
        <p:spPr>
          <a:xfrm>
            <a:off x="5029200" y="3870360"/>
            <a:ext cx="12600" cy="12351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2222640" y="4896000"/>
            <a:ext cx="838080" cy="461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20606">
                  <a:alpha val="70196"/>
                </a:srgbClr>
              </a:gs>
              <a:gs pos="50000">
                <a:srgbClr val="b4090a">
                  <a:alpha val="70196"/>
                </a:srgbClr>
              </a:gs>
              <a:gs pos="100000">
                <a:srgbClr val="720606">
                  <a:alpha val="70196"/>
                </a:srgbClr>
              </a:gs>
            </a:gsLst>
            <a:lin ang="2700000"/>
          </a:gradFill>
          <a:ln w="12600">
            <a:solidFill>
              <a:srgbClr val="b409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Miniport (GigE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3060720" y="4896000"/>
            <a:ext cx="838080" cy="461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20606">
                  <a:alpha val="70196"/>
                </a:srgbClr>
              </a:gs>
              <a:gs pos="50000">
                <a:srgbClr val="b4090a">
                  <a:alpha val="70196"/>
                </a:srgbClr>
              </a:gs>
              <a:gs pos="100000">
                <a:srgbClr val="720606">
                  <a:alpha val="70196"/>
                </a:srgbClr>
              </a:gs>
            </a:gsLst>
            <a:lin ang="2700000"/>
          </a:gradFill>
          <a:ln w="12600">
            <a:solidFill>
              <a:srgbClr val="b409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Miniport (IPoIB)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4280040" y="5141880"/>
            <a:ext cx="1981080" cy="2811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20606">
                  <a:alpha val="70196"/>
                </a:srgbClr>
              </a:gs>
              <a:gs pos="50000">
                <a:srgbClr val="b4090a">
                  <a:alpha val="70196"/>
                </a:srgbClr>
              </a:gs>
              <a:gs pos="100000">
                <a:srgbClr val="720606">
                  <a:alpha val="70196"/>
                </a:srgbClr>
              </a:gs>
            </a:gsLst>
            <a:lin ang="2700000"/>
          </a:gradFill>
          <a:ln w="12600">
            <a:solidFill>
              <a:srgbClr val="b409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Kernel API (verbs based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17"/>
          <p:cNvSpPr/>
          <p:nvPr/>
        </p:nvSpPr>
        <p:spPr>
          <a:xfrm>
            <a:off x="4127400" y="3594240"/>
            <a:ext cx="1739880" cy="2808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20606">
                  <a:alpha val="70196"/>
                </a:srgbClr>
              </a:gs>
              <a:gs pos="50000">
                <a:srgbClr val="b4090a">
                  <a:alpha val="70196"/>
                </a:srgbClr>
              </a:gs>
              <a:gs pos="100000">
                <a:srgbClr val="720606">
                  <a:alpha val="70196"/>
                </a:srgbClr>
              </a:gs>
            </a:gsLst>
            <a:lin ang="2700000"/>
          </a:gradFill>
          <a:ln w="12600">
            <a:solidFill>
              <a:srgbClr val="b409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User API (verbs based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280040" y="5486400"/>
            <a:ext cx="2012760" cy="2811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20606">
                  <a:alpha val="70196"/>
                </a:srgbClr>
              </a:gs>
              <a:gs pos="50000">
                <a:srgbClr val="b4090a">
                  <a:alpha val="70196"/>
                </a:srgbClr>
              </a:gs>
              <a:gs pos="100000">
                <a:srgbClr val="720606">
                  <a:alpha val="70196"/>
                </a:srgbClr>
              </a:gs>
            </a:gsLst>
            <a:lin ang="2700000"/>
          </a:gradFill>
          <a:ln w="12600">
            <a:solidFill>
              <a:srgbClr val="b409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Host Channel Adapter Driv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9"/>
          <p:cNvSpPr/>
          <p:nvPr/>
        </p:nvSpPr>
        <p:spPr>
          <a:xfrm>
            <a:off x="1231920" y="3581280"/>
            <a:ext cx="914400" cy="1752840"/>
          </a:xfrm>
          <a:prstGeom prst="cube">
            <a:avLst>
              <a:gd name="adj" fmla="val 10898"/>
            </a:avLst>
          </a:prstGeom>
          <a:gradFill rotWithShape="0">
            <a:gsLst>
              <a:gs pos="0">
                <a:srgbClr val="720606">
                  <a:alpha val="70196"/>
                </a:srgbClr>
              </a:gs>
              <a:gs pos="50000">
                <a:srgbClr val="b4090a">
                  <a:alpha val="70196"/>
                </a:srgbClr>
              </a:gs>
              <a:gs pos="100000">
                <a:srgbClr val="720606">
                  <a:alpha val="70196"/>
                </a:srgbClr>
              </a:gs>
            </a:gsLst>
            <a:lin ang="2700000"/>
          </a:gradFill>
          <a:ln w="12600">
            <a:solidFill>
              <a:srgbClr val="b409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GigE RDMA WinSock Provider DL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20"/>
          <p:cNvSpPr/>
          <p:nvPr/>
        </p:nvSpPr>
        <p:spPr>
          <a:xfrm flipH="1">
            <a:off x="1917720" y="2590920"/>
            <a:ext cx="914400" cy="1066680"/>
          </a:xfrm>
          <a:prstGeom prst="line">
            <a:avLst/>
          </a:prstGeom>
          <a:ln w="19080">
            <a:solidFill>
              <a:srgbClr val="ffffff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21"/>
          <p:cNvSpPr/>
          <p:nvPr/>
        </p:nvSpPr>
        <p:spPr>
          <a:xfrm>
            <a:off x="7264440" y="5757840"/>
            <a:ext cx="1108080" cy="461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20606">
                  <a:alpha val="70196"/>
                </a:srgbClr>
              </a:gs>
              <a:gs pos="50000">
                <a:srgbClr val="b4090a">
                  <a:alpha val="70196"/>
                </a:srgbClr>
              </a:gs>
              <a:gs pos="100000">
                <a:srgbClr val="720606">
                  <a:alpha val="70196"/>
                </a:srgbClr>
              </a:gs>
            </a:gsLst>
            <a:lin ang="2700000"/>
          </a:gradFill>
          <a:ln w="12600">
            <a:solidFill>
              <a:srgbClr val="b409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IHV-provided compon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22"/>
          <p:cNvSpPr/>
          <p:nvPr/>
        </p:nvSpPr>
        <p:spPr>
          <a:xfrm>
            <a:off x="7264440" y="5249880"/>
            <a:ext cx="1123920" cy="461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d4d0a">
                  <a:alpha val="70196"/>
                </a:srgbClr>
              </a:gs>
              <a:gs pos="50000">
                <a:srgbClr val="e78e13">
                  <a:alpha val="70196"/>
                </a:srgbClr>
              </a:gs>
              <a:gs pos="100000">
                <a:srgbClr val="7d4d0a">
                  <a:alpha val="70196"/>
                </a:srgbClr>
              </a:gs>
            </a:gsLst>
            <a:lin ang="2700000"/>
          </a:gradFill>
          <a:ln w="12600">
            <a:solidFill>
              <a:srgbClr val="8a14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OS compon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23"/>
          <p:cNvSpPr/>
          <p:nvPr/>
        </p:nvSpPr>
        <p:spPr>
          <a:xfrm>
            <a:off x="2222640" y="4595760"/>
            <a:ext cx="1676160" cy="2811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d4d0a">
                  <a:alpha val="70196"/>
                </a:srgbClr>
              </a:gs>
              <a:gs pos="50000">
                <a:srgbClr val="e78e13">
                  <a:alpha val="70196"/>
                </a:srgbClr>
              </a:gs>
              <a:gs pos="100000">
                <a:srgbClr val="7d4d0a">
                  <a:alpha val="70196"/>
                </a:srgbClr>
              </a:gs>
            </a:gsLst>
            <a:lin ang="2700000"/>
          </a:gradFill>
          <a:ln w="12600">
            <a:solidFill>
              <a:srgbClr val="8a14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ND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4"/>
          <p:cNvSpPr/>
          <p:nvPr/>
        </p:nvSpPr>
        <p:spPr>
          <a:xfrm>
            <a:off x="2235240" y="1900080"/>
            <a:ext cx="1371600" cy="592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d4d0a">
                  <a:alpha val="70196"/>
                </a:srgbClr>
              </a:gs>
              <a:gs pos="50000">
                <a:srgbClr val="e78e13">
                  <a:alpha val="70196"/>
                </a:srgbClr>
              </a:gs>
              <a:gs pos="100000">
                <a:srgbClr val="7d4d0a">
                  <a:alpha val="70196"/>
                </a:srgbClr>
              </a:gs>
            </a:gsLst>
            <a:lin ang="2700000"/>
          </a:gradFill>
          <a:ln w="12600">
            <a:solidFill>
              <a:srgbClr val="8a14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WinSock Switc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5"/>
          <p:cNvSpPr/>
          <p:nvPr/>
        </p:nvSpPr>
        <p:spPr>
          <a:xfrm>
            <a:off x="3092760" y="2841480"/>
            <a:ext cx="875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egoe Semibold"/>
              </a:rPr>
              <a:t>IB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Segoe Semibold"/>
              </a:rPr>
              <a:t>w/ RD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1395720" y="2908440"/>
            <a:ext cx="8755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egoe Semibold"/>
              </a:rPr>
              <a:t>Gi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egoe Semibold"/>
              </a:rPr>
              <a:t>w/ RD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7"/>
          <p:cNvSpPr/>
          <p:nvPr/>
        </p:nvSpPr>
        <p:spPr>
          <a:xfrm>
            <a:off x="2916360" y="3429000"/>
            <a:ext cx="801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egoe Semibold"/>
              </a:rPr>
              <a:t>IP pa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Freeform 28"/>
          <p:cNvSpPr/>
          <p:nvPr/>
        </p:nvSpPr>
        <p:spPr>
          <a:xfrm>
            <a:off x="3822840" y="5029200"/>
            <a:ext cx="761760" cy="1522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9"/>
          <p:cNvSpPr/>
          <p:nvPr/>
        </p:nvSpPr>
        <p:spPr>
          <a:xfrm>
            <a:off x="2603520" y="5334120"/>
            <a:ext cx="0" cy="152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30"/>
          <p:cNvSpPr/>
          <p:nvPr/>
        </p:nvSpPr>
        <p:spPr>
          <a:xfrm flipH="1">
            <a:off x="5730480" y="3822840"/>
            <a:ext cx="12600" cy="19044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31"/>
          <p:cNvSpPr/>
          <p:nvPr/>
        </p:nvSpPr>
        <p:spPr>
          <a:xfrm>
            <a:off x="5062320" y="1112760"/>
            <a:ext cx="1264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c811"/>
                </a:solidFill>
                <a:latin typeface="Segoe Semibold"/>
              </a:rPr>
              <a:t>User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5042520" y="4567320"/>
            <a:ext cx="1459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c811"/>
                </a:solidFill>
                <a:latin typeface="Segoe Semibold"/>
              </a:rPr>
              <a:t>Kernel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33"/>
          <p:cNvSpPr/>
          <p:nvPr/>
        </p:nvSpPr>
        <p:spPr>
          <a:xfrm>
            <a:off x="4203720" y="1892160"/>
            <a:ext cx="1684440" cy="498600"/>
          </a:xfrm>
          <a:prstGeom prst="borderCallout1">
            <a:avLst>
              <a:gd name="adj1" fmla="val 18750"/>
              <a:gd name="adj2" fmla="val -8333"/>
              <a:gd name="adj3" fmla="val 86625"/>
              <a:gd name="adj4" fmla="val -39208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egoe Semibold"/>
              </a:rPr>
              <a:t>Switch traffic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Segoe Semibold"/>
              </a:rPr>
              <a:t>based on sub-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34"/>
          <p:cNvSpPr/>
          <p:nvPr/>
        </p:nvSpPr>
        <p:spPr>
          <a:xfrm>
            <a:off x="6896160" y="3683160"/>
            <a:ext cx="1584360" cy="1028520"/>
          </a:xfrm>
          <a:prstGeom prst="borderCallout1">
            <a:avLst>
              <a:gd name="adj1" fmla="val 18750"/>
              <a:gd name="adj2" fmla="val -8333"/>
              <a:gd name="adj3" fmla="val 44444"/>
              <a:gd name="adj4" fmla="val -22046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egoe Semibold"/>
              </a:rPr>
              <a:t>Manage hardware resources in user space (eg., Send and receive queu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35"/>
          <p:cNvSpPr/>
          <p:nvPr/>
        </p:nvSpPr>
        <p:spPr>
          <a:xfrm>
            <a:off x="6477120" y="4416480"/>
            <a:ext cx="12600" cy="1425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36"/>
          <p:cNvSpPr/>
          <p:nvPr/>
        </p:nvSpPr>
        <p:spPr>
          <a:xfrm>
            <a:off x="2235240" y="1230480"/>
            <a:ext cx="1351080" cy="264960"/>
          </a:xfrm>
          <a:prstGeom prst="cube">
            <a:avLst>
              <a:gd name="adj" fmla="val 17995"/>
            </a:avLst>
          </a:prstGeom>
          <a:gradFill rotWithShape="0">
            <a:gsLst>
              <a:gs pos="0">
                <a:srgbClr val="587989">
                  <a:alpha val="70196"/>
                </a:srgbClr>
              </a:gs>
              <a:gs pos="50000">
                <a:srgbClr val="a3dffe">
                  <a:alpha val="70196"/>
                </a:srgbClr>
              </a:gs>
              <a:gs pos="100000">
                <a:srgbClr val="587989">
                  <a:alpha val="70196"/>
                </a:srgbClr>
              </a:gs>
            </a:gsLst>
            <a:lin ang="2700000"/>
          </a:gradFill>
          <a:ln w="12600">
            <a:solidFill>
              <a:srgbClr val="a3df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HPC Applic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37"/>
          <p:cNvSpPr/>
          <p:nvPr/>
        </p:nvSpPr>
        <p:spPr>
          <a:xfrm>
            <a:off x="2235240" y="1563840"/>
            <a:ext cx="1371600" cy="2808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d4d0a">
                  <a:alpha val="70196"/>
                </a:srgbClr>
              </a:gs>
              <a:gs pos="50000">
                <a:srgbClr val="e78e13">
                  <a:alpha val="70196"/>
                </a:srgbClr>
              </a:gs>
              <a:gs pos="100000">
                <a:srgbClr val="7d4d0a">
                  <a:alpha val="70196"/>
                </a:srgbClr>
              </a:gs>
            </a:gsLst>
            <a:lin ang="2700000"/>
          </a:gradFill>
          <a:ln w="12600">
            <a:solidFill>
              <a:srgbClr val="8a14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egoe Semibold"/>
              </a:rPr>
              <a:t>MP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5T10:45:11Z</dcterms:created>
  <dc:creator>Tabatha Shaddick</dc:creator>
  <dc:description/>
  <dc:language>en-US</dc:language>
  <cp:lastModifiedBy>Sonia Pignorel</cp:lastModifiedBy>
  <dcterms:modified xsi:type="dcterms:W3CDTF">2006-09-23T00:02:56Z</dcterms:modified>
  <cp:revision>116</cp:revision>
  <dc:subject/>
  <dc:title>Slide 1</dc:title>
</cp:coreProperties>
</file>