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B914-238E-4C54-A9E1-C270D0676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9360" y="410508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5BAB2-474D-4A1B-BD3F-60A301120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73348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CD70-E19B-450B-9482-30B7786A8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2924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48948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936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92924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48948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3639-AF5A-4556-BAC1-4FDBFDC3D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69360" y="3189240"/>
            <a:ext cx="4613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461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6560" y="810720"/>
            <a:ext cx="73900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9360" y="3189240"/>
            <a:ext cx="4613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E3A1-E49A-4E0B-84F5-3DD12847B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73348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69360" y="410508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73348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2924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89480" y="318924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936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192924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3489480" y="4105080"/>
            <a:ext cx="1485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461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DC63-5A37-435E-8716-5EE0A035A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E3385-7D54-43A7-AD3B-FBEE3E85A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05E7-015F-4870-9004-B0BAF90CD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6560" y="810720"/>
            <a:ext cx="73900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5BFE-0399-487B-91AF-0565F006B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682F-50F8-411C-B040-E7FA4574E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733480" y="410508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74B1-9C3C-46E6-BACD-221D2A780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936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733480" y="3189240"/>
            <a:ext cx="2251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9360" y="4105080"/>
            <a:ext cx="461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0B3C3-E49F-4B75-ADC9-F9DA57931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360" y="6480"/>
            <a:ext cx="9125280" cy="6845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57240" y="6528960"/>
            <a:ext cx="139536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777777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8E0F-07E6-4FE7-8CA3-B2F21E390217}" type="slidenum">
              <a:rPr b="1" lang="en-US" sz="900" spc="-1" strike="noStrike">
                <a:solidFill>
                  <a:srgbClr val="777777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05280" y="66578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1669680" y="6548400"/>
            <a:ext cx="583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6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de Association.  Other names and brands are properties of their respective own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80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5560" y="1228680"/>
            <a:ext cx="8016840" cy="17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hysical Layer Update – EWG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69360" y="3855960"/>
            <a:ext cx="4999320" cy="30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senting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an Colloff, EW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utline: Physical Layer Update Session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4080" y="1117440"/>
            <a:ext cx="87217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WG Activities Overview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DR/QD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Rel. 1.2 Signaling Revie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pec changes since Jan.06  on Compliant Channels &amp; Copper Cab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luggable Devi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llowing this presentation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WG Member Company Present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1DBB-39D6-4D1F-9F35-337C20EEB8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680" y="90000"/>
            <a:ext cx="877248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DR, QDR: Compatibility &amp; Data Rat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2920" y="725400"/>
            <a:ext cx="8589960" cy="322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operable with all previous IB por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ll copper links capable of SDR operation as well (when SDR eye opening specs are met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ptical link rules for SDR interoperability: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ll 1x-SX, 4x-SX, and 12x-SX SDR, DDR, and QDR devices must interoperate at SDR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ll 1X-LX SDR, DDR, and QDR optical transceivers must interoperate at SDR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4X-LX (4x-SDR serialized to 10Gbps) not required to interoperate with any other speed or width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ame (intermateable) connecto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me SDR cables or backplanes may not function at the higher bit rat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ise/Crosstalk, &amp; Signal Integrity (insertion, return loss) at DDR/QD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98360" y="4276800"/>
          <a:ext cx="8686800" cy="2252520"/>
        </p:xfrm>
        <a:graphic>
          <a:graphicData uri="http://schemas.openxmlformats.org/drawingml/2006/table">
            <a:tbl>
              <a:tblPr/>
              <a:tblGrid>
                <a:gridCol w="3414600"/>
                <a:gridCol w="1339920"/>
                <a:gridCol w="1262160"/>
                <a:gridCol w="1241280"/>
                <a:gridCol w="1428840"/>
              </a:tblGrid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R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DR (Orig.) – 2.5 Gb/s / direction / l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2.5+2.5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10+10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20+20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30+30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DR             – 5.0 Gb/s / direction / l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5+5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20+20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40+40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60+60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QDR           – 10.0 Gb/s / direction / l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10+10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40+40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80+80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120+120) Gb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357F-674A-4C19-BEA3-1F33AE1F40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view: Rel 1.2 Signaling Approach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4440" y="1308240"/>
            <a:ext cx="2727360" cy="55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-233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ecified Transmit Characteristics at chi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pecified Receive Characteristics at chi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connect specified separatel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ss Budget/compliance poin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YE” open at receiv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-emphasis or filter for equaliz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gnal Detec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4880" y="1308240"/>
            <a:ext cx="6099120" cy="55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liance channel: a defined filter, inserted between Tx &amp; Rx for test and verific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liant Channel: actual HW which meets defined requirements to allow operation at specified B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ceiver specified by transmitter, &amp; channel S-paramet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1094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ye may be closed at receiver inpu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ssume pre-emphasis at Tx, &amp; DFE or similar at Rx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1094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aptive equalization using training pattern on initializa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eartbeat/Latency ordered s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 high-speed signal detect (beacon at SDR rate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DR: Changes to improve Interconnect Distan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109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creased loss budget by 5 dB to compensate for higher-frequency losses (skin effect, dielectric absorption) and increased crosstal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1094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DR copper nearly same distance as SDR copp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QDR: Newer materials probably needed for QDR backplan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119160" y="787320"/>
            <a:ext cx="3189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DR – Defined in Rel.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11480" y="787320"/>
            <a:ext cx="4818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DR/QDR – Defined in Rel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F534-3847-4185-B4CD-DCFBA96964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7631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DR/QDR Channel: S-Parameter chang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4760" y="1093680"/>
          <a:ext cx="8908920" cy="3600720"/>
        </p:xfrm>
        <a:graphic>
          <a:graphicData uri="http://schemas.openxmlformats.org/drawingml/2006/table">
            <a:tbl>
              <a:tblPr/>
              <a:tblGrid>
                <a:gridCol w="642960"/>
                <a:gridCol w="1128600"/>
                <a:gridCol w="962280"/>
                <a:gridCol w="1011240"/>
                <a:gridCol w="1077840"/>
                <a:gridCol w="1212840"/>
                <a:gridCol w="973080"/>
                <a:gridCol w="952560"/>
                <a:gridCol w="947520"/>
              </a:tblGrid>
              <a:tr h="32940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D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QD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36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, 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d Sdd21 min.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Jan. err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w Sdd21 min. (modifi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d Sdd11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Jan. err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w Sdd11 (unchang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d Sdd21 min.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Jan. err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w Sdd21 min. (modifi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d Sdd11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Jan. err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w Sdd11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unchang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27360" rIns="0" tIns="0" bIns="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27360" rIns="0" tIns="0" bIns="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27360" rIns="0" tIns="0" bIns="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27360" rIns="0" tIns="0" bIns="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5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27360" rIns="0" tIns="0" bIns="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 *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.5 *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27360" rIns="0" tIns="0" bIns="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27360" rIns="0" tIns="0" bIns="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27360" rIns="0" tIns="0" bIns="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 *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dd21 min./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244440" y="4986360"/>
            <a:ext cx="778212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caling of min. values to lower freqs. no longer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DR Common mode (sdc21, sdc11) requirements dro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hannel covers Test Points TP2 to TP4. Informative specifications for Serdes-to-Serdes S Parameters allow ~2dB margin at high-frequencies for card wi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711360"/>
            <a:ext cx="7848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DR &amp; QDR compliant channel changes from January erra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A5B4-C26B-4BAD-9857-CB0381CB4D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8963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DR/QDR Cable: S-Parameter change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4760" y="1093680"/>
          <a:ext cx="8908920" cy="3156120"/>
        </p:xfrm>
        <a:graphic>
          <a:graphicData uri="http://schemas.openxmlformats.org/drawingml/2006/table">
            <a:tbl>
              <a:tblPr/>
              <a:tblGrid>
                <a:gridCol w="642960"/>
                <a:gridCol w="1128600"/>
                <a:gridCol w="962280"/>
                <a:gridCol w="1011240"/>
                <a:gridCol w="1077840"/>
                <a:gridCol w="1212840"/>
                <a:gridCol w="973080"/>
                <a:gridCol w="952560"/>
                <a:gridCol w="947520"/>
              </a:tblGrid>
              <a:tr h="32940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D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QD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36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, 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d Sdd21 min.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Jan. err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w Sdd21 min. (modifi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d Sdd11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Jan. err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w Sdd11 (unchang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d Sdd21 min.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Jan. err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w Sdd21 min. (modifi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ld Sdd11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Jan. err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w Sdd11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unchang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t spec.’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t spec.’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t spec.’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t spec.’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t spec.’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t spec.’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t spec.’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27360" rIns="90000" tIns="27360" bIns="2736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t spec.’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27360" rIns="27360" tIns="27360" bIns="2736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7360" marR="27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250920" y="4971960"/>
            <a:ext cx="81439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x. insertion loss (envelope) limits dro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caling of min. values to lower freqs. no longer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mon mode (sdc21, sdc11) requirements dro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711360"/>
            <a:ext cx="7848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DR &amp; QDR copper cable changes from January erra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D361-FBE6-46F5-BD4E-C5A7A0A38B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ew Pluggable Form Factor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4440" y="1308240"/>
            <a:ext cx="3881520" cy="422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-233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x Pluggable specified for SDR onl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X pluggable based on XPAK MS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06440" indent="-586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s XPAK mechanical and Low Speed Electrica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406440" indent="-586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ses IBTA High Speed Electrical, Optical, 4X Connector, and 4X cab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406440" indent="-586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ww.xpak.or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quired Port Type 2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06440" indent="-586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roved jitter at transmitt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05040" y="1308240"/>
            <a:ext cx="4638600" cy="413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DR, DDR, .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sed on QSFP MS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1094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maller, better heat mgmnt, better electrical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Port Type 2 this tim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1094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ll signal conditioning done in pluggable devic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3280" indent="-2332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ultiple distance-specific device types possib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1094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ff00"/>
              </a:buClr>
              <a:buSzPct val="12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assive copper slug (part of cable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1094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0000"/>
              </a:buClr>
              <a:buSzPct val="8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assive copper module (no extra connector allowed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1094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ff00"/>
              </a:buClr>
              <a:buSzPct val="12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ctive copper (extra connectors allowed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1094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ff00"/>
              </a:buClr>
              <a:buSzPct val="12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ctive cables (copper or optical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-1094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ff00"/>
              </a:buClr>
              <a:buSzPct val="12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Optical Transceiver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787320"/>
            <a:ext cx="3805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x Pluggable – Rel.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60840" y="787320"/>
            <a:ext cx="4268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x Pluggable-QSFP -- Design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C784-91B0-4BBB-9832-8ED5AE1137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3920" y="2203200"/>
            <a:ext cx="7389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hank you…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05920" y="5045040"/>
            <a:ext cx="4613400" cy="90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9:06:36Z</dcterms:created>
  <dc:creator>IBTA EWG Members,   A. Benner editing</dc:creator>
  <dc:description/>
  <dc:language>en-US</dc:language>
  <cp:lastModifiedBy>Alan F. Benner</cp:lastModifiedBy>
  <cp:lastPrinted>1998-06-24T21:45:20Z</cp:lastPrinted>
  <dcterms:modified xsi:type="dcterms:W3CDTF">2006-09-15T19:22:39Z</dcterms:modified>
  <cp:revision>97</cp:revision>
  <dc:subject/>
  <dc:title>EWG - Physical Layer Updates --  IBTA &amp; OFA DevCon</dc:title>
</cp:coreProperties>
</file>