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9AC9-5053-4FCC-A176-836941A0C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51B6-4082-4498-8E36-E99E771BF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6E8D-22C6-42DE-8F05-B7A09F357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D170-D035-4222-B443-6E815A176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8FC4-0BD5-4908-B354-A5413F0C9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F89B-D09A-4F31-B284-6DA54DD16A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A248-56E9-495D-AB0C-E16A9A3184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880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8280" y="129492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2824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0880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8280" y="3818160"/>
            <a:ext cx="2723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81B4-DADE-4471-B983-8AF1DB401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716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1215-9338-403A-9025-D5FD0128E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23C5-5928-4508-A435-8995F8C4A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2280" y="381816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9678-E95E-4E63-981F-CB252427DF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21168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2280" y="1294920"/>
            <a:ext cx="41274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818160"/>
            <a:ext cx="84582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3C81-83F8-4A0E-9D18-C8FB2F857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4C38-126E-4207-8552-707AFFCC8040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F5B7-7428-4BCF-97F2-BBCF73A80BE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904760" y="5105520"/>
            <a:ext cx="5484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nia Pignorel,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lad Shainer, 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penFabrics Windows Development and Microsoft Windows CCS 2003</a:t>
            </a:r>
            <a:br>
              <a:rPr sz="33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s Development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tandard softwar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adop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developmen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range of upper level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integration into the Windows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6, x64, and It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Compute Cluster Serv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6, 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h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&amp; Maintai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38240" y="1162080"/>
          <a:ext cx="8838720" cy="4475160"/>
        </p:xfrm>
        <a:graphic>
          <a:graphicData uri="http://schemas.openxmlformats.org/drawingml/2006/table">
            <a:tbl>
              <a:tblPr/>
              <a:tblGrid>
                <a:gridCol w="3115440"/>
                <a:gridCol w="572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2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2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Drivers/Access 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Yossi Leybovich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 d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nid Keller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Yossi Leybovich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sock Direct Provider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Tzachi Dar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 Initiator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b Tillier (SilverStorm), Yossi Leybovich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zachi Dar (Mellanox), Fab Tillier (SilverStor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tan Zahavi (Mellano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NIC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x Estrin (SilverStor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28600" y="5686560"/>
            <a:ext cx="29894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available on Windows X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Not available on Windows XP 32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Will be available in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86200" y="4038480"/>
            <a:ext cx="1011240" cy="1143000"/>
            <a:chOff x="3886200" y="4038480"/>
            <a:chExt cx="1011240" cy="1143000"/>
          </a:xfrm>
        </p:grpSpPr>
        <p:sp>
          <p:nvSpPr>
            <p:cNvPr id="176" name=""/>
            <p:cNvSpPr/>
            <p:nvPr/>
          </p:nvSpPr>
          <p:spPr>
            <a:xfrm>
              <a:off x="3886200" y="4572000"/>
              <a:ext cx="1011240" cy="60948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86200" y="4038480"/>
              <a:ext cx="1011240" cy="4921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r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27200" y="3970440"/>
            <a:ext cx="4911480" cy="0"/>
          </a:xfrm>
          <a:prstGeom prst="line">
            <a:avLst/>
          </a:prstGeom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3962520"/>
            <a:ext cx="0" cy="1895400"/>
          </a:xfrm>
          <a:prstGeom prst="line">
            <a:avLst/>
          </a:prstGeom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895480" y="2666880"/>
            <a:ext cx="914040" cy="2514600"/>
            <a:chOff x="2895480" y="2666880"/>
            <a:chExt cx="914040" cy="2514600"/>
          </a:xfrm>
        </p:grpSpPr>
        <p:sp>
          <p:nvSpPr>
            <p:cNvPr id="181" name=""/>
            <p:cNvSpPr/>
            <p:nvPr/>
          </p:nvSpPr>
          <p:spPr>
            <a:xfrm>
              <a:off x="2895480" y="4038480"/>
              <a:ext cx="914040" cy="114300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P*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00160" y="2666880"/>
              <a:ext cx="899640" cy="121788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I*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14400" y="1523880"/>
            <a:ext cx="5486400" cy="324000"/>
          </a:xfrm>
          <a:prstGeom prst="rect">
            <a:avLst/>
          </a:prstGeom>
          <a:gradFill rotWithShape="0">
            <a:gsLst>
              <a:gs pos="0">
                <a:srgbClr val="66cc66"/>
              </a:gs>
              <a:gs pos="50000">
                <a:srgbClr val="ace2ac"/>
              </a:gs>
              <a:gs pos="100000">
                <a:srgbClr val="66cc66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479160" y="2477880"/>
            <a:ext cx="550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06080" y="4937760"/>
            <a:ext cx="696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754680" y="2556000"/>
            <a:ext cx="1473120" cy="2463480"/>
            <a:chOff x="6754680" y="2556000"/>
            <a:chExt cx="1473120" cy="2463480"/>
          </a:xfrm>
        </p:grpSpPr>
        <p:grpSp>
          <p:nvGrpSpPr>
            <p:cNvPr id="187" name=""/>
            <p:cNvGrpSpPr/>
            <p:nvPr/>
          </p:nvGrpSpPr>
          <p:grpSpPr>
            <a:xfrm>
              <a:off x="6754680" y="2556000"/>
              <a:ext cx="1473120" cy="1458720"/>
              <a:chOff x="6754680" y="2556000"/>
              <a:chExt cx="1473120" cy="1458720"/>
            </a:xfrm>
          </p:grpSpPr>
          <p:sp>
            <p:nvSpPr>
              <p:cNvPr id="188" name=""/>
              <p:cNvSpPr/>
              <p:nvPr/>
            </p:nvSpPr>
            <p:spPr>
              <a:xfrm>
                <a:off x="6754680" y="2556000"/>
                <a:ext cx="1473120" cy="1458720"/>
              </a:xfrm>
              <a:prstGeom prst="roundRect">
                <a:avLst>
                  <a:gd name="adj" fmla="val 8972"/>
                </a:avLst>
              </a:prstGeom>
              <a:solidFill>
                <a:srgbClr val="808080">
                  <a:alpha val="2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25960" y="2627280"/>
                <a:ext cx="226440" cy="222120"/>
              </a:xfrm>
              <a:prstGeom prst="rect">
                <a:avLst/>
              </a:prstGeom>
              <a:gradFill rotWithShape="0">
                <a:gsLst>
                  <a:gs pos="0">
                    <a:srgbClr val="66cc66"/>
                  </a:gs>
                  <a:gs pos="50000">
                    <a:srgbClr val="ace2ac"/>
                  </a:gs>
                  <a:gs pos="100000">
                    <a:srgbClr val="66cc66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25960" y="3371760"/>
                <a:ext cx="226440" cy="21276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25960" y="3735360"/>
                <a:ext cx="226440" cy="216000"/>
              </a:xfrm>
              <a:prstGeom prst="rect">
                <a:avLst/>
              </a:prstGeom>
              <a:gradFill rotWithShape="0">
                <a:gsLst>
                  <a:gs pos="0">
                    <a:srgbClr val="ffb601"/>
                  </a:gs>
                  <a:gs pos="50000">
                    <a:srgbClr val="fed676"/>
                  </a:gs>
                  <a:gs pos="100000">
                    <a:srgbClr val="ffb601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43400" y="2981160"/>
                <a:ext cx="90756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ndow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044480" y="2617920"/>
                <a:ext cx="11725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l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44480" y="3348000"/>
                <a:ext cx="118188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Window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041960" y="3713040"/>
                <a:ext cx="934920" cy="2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ardwa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5960" y="3000240"/>
                <a:ext cx="226440" cy="220680"/>
              </a:xfrm>
              <a:prstGeom prst="rect">
                <a:avLst/>
              </a:prstGeom>
              <a:gradFill rotWithShape="0">
                <a:gsLst>
                  <a:gs pos="0">
                    <a:srgbClr val="5e91e4"/>
                  </a:gs>
                  <a:gs pos="50000">
                    <a:srgbClr val="a7c3ef"/>
                  </a:gs>
                  <a:gs pos="100000">
                    <a:srgbClr val="5e91e4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6755040" y="4317840"/>
              <a:ext cx="14454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Windows Compu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Server 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** Will be available 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886200" y="2666880"/>
            <a:ext cx="1096920" cy="49068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9b895"/>
              </a:gs>
              <a:gs pos="100000">
                <a:srgbClr val="f67e3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SD S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59440" y="2666880"/>
            <a:ext cx="1341360" cy="49392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9b895"/>
              </a:gs>
              <a:gs pos="100000">
                <a:srgbClr val="f67e3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14400" y="3219480"/>
            <a:ext cx="5486400" cy="2952720"/>
            <a:chOff x="914400" y="3219480"/>
            <a:chExt cx="5486400" cy="2952720"/>
          </a:xfrm>
        </p:grpSpPr>
        <p:sp>
          <p:nvSpPr>
            <p:cNvPr id="201" name=""/>
            <p:cNvSpPr/>
            <p:nvPr/>
          </p:nvSpPr>
          <p:spPr>
            <a:xfrm>
              <a:off x="914400" y="5907240"/>
              <a:ext cx="5486400" cy="264960"/>
            </a:xfrm>
            <a:prstGeom prst="rect">
              <a:avLst/>
            </a:prstGeom>
            <a:gradFill rotWithShape="0">
              <a:gsLst>
                <a:gs pos="0">
                  <a:srgbClr val="ffb601"/>
                </a:gs>
                <a:gs pos="50000">
                  <a:srgbClr val="fed676"/>
                </a:gs>
                <a:gs pos="100000">
                  <a:srgbClr val="ffb601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CA Hard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914400" y="5240160"/>
              <a:ext cx="4572000" cy="597240"/>
              <a:chOff x="914400" y="5240160"/>
              <a:chExt cx="4572000" cy="597240"/>
            </a:xfrm>
          </p:grpSpPr>
          <p:sp>
            <p:nvSpPr>
              <p:cNvPr id="203" name=""/>
              <p:cNvSpPr/>
              <p:nvPr/>
            </p:nvSpPr>
            <p:spPr>
              <a:xfrm>
                <a:off x="914400" y="5240160"/>
                <a:ext cx="4570920" cy="26424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Lay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914400" y="5572800"/>
                <a:ext cx="4572000" cy="26460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bs Provider Dri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886200" y="3219480"/>
              <a:ext cx="2514240" cy="666720"/>
              <a:chOff x="3886200" y="3219480"/>
              <a:chExt cx="2514240" cy="666720"/>
            </a:xfrm>
          </p:grpSpPr>
          <p:sp>
            <p:nvSpPr>
              <p:cNvPr id="206" name=""/>
              <p:cNvSpPr/>
              <p:nvPr/>
            </p:nvSpPr>
            <p:spPr>
              <a:xfrm>
                <a:off x="3888000" y="3598920"/>
                <a:ext cx="2512440" cy="28728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bs Provider Libra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86200" y="3219480"/>
                <a:ext cx="2514240" cy="287280"/>
              </a:xfrm>
              <a:prstGeom prst="rect">
                <a:avLst/>
              </a:prstGeom>
              <a:gradFill rotWithShape="0">
                <a:gsLst>
                  <a:gs pos="0">
                    <a:srgbClr val="f67e3c"/>
                  </a:gs>
                  <a:gs pos="50000">
                    <a:srgbClr val="f9b895"/>
                  </a:gs>
                  <a:gs pos="100000">
                    <a:srgbClr val="f67e3c"/>
                  </a:gs>
                </a:gsLst>
                <a:lin ang="135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cess Layer Libra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241960" y="3889440"/>
              <a:ext cx="881280" cy="1973160"/>
              <a:chOff x="5241960" y="3889440"/>
              <a:chExt cx="881280" cy="19731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832720" y="3889440"/>
                <a:ext cx="290520" cy="1973160"/>
                <a:chOff x="5832720" y="3889440"/>
                <a:chExt cx="290520" cy="1973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14240" y="3889440"/>
                  <a:ext cx="0" cy="197316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200000">
                  <a:off x="5313960" y="4503240"/>
                  <a:ext cx="13280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rnel Bypas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5241960" y="3889440"/>
                <a:ext cx="0" cy="12920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914400" y="1927080"/>
            <a:ext cx="4038480" cy="3254400"/>
            <a:chOff x="914400" y="1927080"/>
            <a:chExt cx="4038480" cy="3254400"/>
          </a:xfrm>
        </p:grpSpPr>
        <p:sp>
          <p:nvSpPr>
            <p:cNvPr id="214" name=""/>
            <p:cNvSpPr/>
            <p:nvPr/>
          </p:nvSpPr>
          <p:spPr>
            <a:xfrm>
              <a:off x="914400" y="2262240"/>
              <a:ext cx="4038480" cy="32868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sock Socket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4400" y="2666880"/>
              <a:ext cx="1905120" cy="12193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S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86200" y="1927080"/>
              <a:ext cx="914400" cy="28260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I2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4400" y="487692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f67e3c"/>
                </a:gs>
                <a:gs pos="50000">
                  <a:srgbClr val="f9b895"/>
                </a:gs>
                <a:gs pos="100000">
                  <a:srgbClr val="f67e3c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oI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4572000"/>
              <a:ext cx="1905120" cy="2635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14400" y="4038480"/>
              <a:ext cx="1905120" cy="506520"/>
            </a:xfrm>
            <a:prstGeom prst="rect">
              <a:avLst/>
            </a:prstGeom>
            <a:gradFill rotWithShape="0">
              <a:gsLst>
                <a:gs pos="0">
                  <a:srgbClr val="5e91e4"/>
                </a:gs>
                <a:gs pos="50000">
                  <a:srgbClr val="a7c3ef"/>
                </a:gs>
                <a:gs pos="100000">
                  <a:srgbClr val="5e91e4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CP/UDP/IC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05120" y="4876920"/>
            <a:ext cx="914400" cy="304560"/>
          </a:xfrm>
          <a:prstGeom prst="rect">
            <a:avLst/>
          </a:prstGeom>
          <a:gradFill rotWithShape="0">
            <a:gsLst>
              <a:gs pos="0">
                <a:srgbClr val="f67e3c"/>
              </a:gs>
              <a:gs pos="50000">
                <a:srgbClr val="f9b895"/>
              </a:gs>
              <a:gs pos="100000">
                <a:srgbClr val="f67e3c"/>
              </a:gs>
            </a:gsLst>
            <a:lin ang="135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NIC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Developm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240" y="14173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HCA replaced TVP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Mellanox InfiniBand HCAs including MemFree and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zation of IBAL, MTHCA, IPoIB and W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support for Windows 2003 R2 (virt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level performanc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the Linux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quality compon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HQL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oIB – passes Microsoft WHQ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D – several issues are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and OpenFabrics collaborate for re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st build available from OpenFabrics webs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ndows.openib.org/downloads/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0 release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N revision number included in releas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st as of September 21, 2006: 1.0.0.5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for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B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openib.org/tiki/tiki-index.php?page=OpenIB+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b-windows mailing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openib.org/mailman/listinfo/openib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 up to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ndows.openib.org/openib/contribut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indows.openib.org/downloads/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e, contribute and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toward “enterprise readin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0:03:17Z</dcterms:created>
  <dc:creator>erezc</dc:creator>
  <dc:description/>
  <dc:language>en-US</dc:language>
  <cp:lastModifiedBy>shainer</cp:lastModifiedBy>
  <dcterms:modified xsi:type="dcterms:W3CDTF">2006-09-22T22:28:06Z</dcterms:modified>
  <cp:revision>26</cp:revision>
  <dc:subject/>
  <dc:title>MemFree Techn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